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9EB-2F4F-4A94-A1BD-F39FC1DC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215-EAED-4C24-A6B2-79EFFA47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ED4-AA0C-4CA5-8735-8C706D01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A8D-86FD-4562-8C14-16ADA784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639F-A000-4ECF-9D0E-39D0CF5D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4B46-C8A7-44D6-B7CC-E6D0335C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AF12-3A30-452F-BD69-716B6A78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25E0-8614-4288-96B9-C8AC5064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7C4F-1DEC-47AF-92EB-FD93DB8C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276D-BDDC-42D7-9C13-5064B722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A5E1-FC6B-4367-8659-5B120961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E51-C871-44CE-88C1-43F03477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41F4-71B4-4F98-B3CF-A20DFB41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078D-FC37-45EF-91C3-E3BBC36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3623-61C6-4D6F-B651-255F0A09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7905-73C3-45DD-BE4A-BA90FC1E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479C-1F98-490E-B466-95006133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07C3E-0505-4A8F-8FBA-DB4C32E3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25EF-960E-44BF-A985-0508D47F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5577-58D4-4819-AE7C-B86F33A9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D896-0D6A-4B2D-ACFB-5C23A9AA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0161-A489-4026-8832-BF4295E7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9C5-54B1-4259-AEFC-5839A958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964C-94F4-4E3A-A53D-2F18B84F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9318-2861-4346-8B2B-B3C5609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4741-1DD2-4CF9-B82C-C9D38F86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83E6-0CB8-42C1-AC3F-65EDD06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17F5-1EC5-401D-8FB4-1AEE437A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2A40-6FC9-4AD0-8C2B-C8FA03BF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3ACC3-F66A-491D-8257-8F47B96C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A8F-C0BC-4D6F-8ACD-56C48B98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450-73D3-45E8-B593-0810B1A3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92B-FF2E-4565-B3A5-9344B8D7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6A1-2253-414D-AFE3-B0953AB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6E2-709E-4642-AF11-FDCEC306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A78-1D68-40EB-B8C3-DB5A89A2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988A-78BE-4B82-BD6D-F86EBB581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D116-345F-48C8-9E01-966CE21284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3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BF24-DE45-45EF-8BC1-D2601D2C552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66680" y="1066680"/>
            <a:ext cx="3314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esented B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3809880"/>
            <a:ext cx="3267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nku Bans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GAS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7b8ee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ATRY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571500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990000" y="5104800"/>
            <a:ext cx="53316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990360" y="46483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46483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4648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4800600"/>
            <a:ext cx="75960" cy="763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4495680"/>
            <a:ext cx="4856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790600" y="5105520"/>
            <a:ext cx="2895480" cy="1218960"/>
          </a:xfrm>
          <a:custGeom>
            <a:avLst/>
            <a:gdLst>
              <a:gd name="textAreaLeft" fmla="*/ 850680 w 2895480"/>
              <a:gd name="textAreaRight" fmla="*/ 2895480 w 2895480"/>
              <a:gd name="textAreaTop" fmla="*/ 50760 h 1218960"/>
              <a:gd name="textAreaBottom" fmla="*/ 11682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86728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5334120"/>
            <a:ext cx="10670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2819520"/>
            <a:ext cx="6858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2666880"/>
            <a:ext cx="6858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14400" y="3276360"/>
            <a:ext cx="30481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62120" y="2666880"/>
            <a:ext cx="3047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809880"/>
            <a:ext cx="76320" cy="7632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76320"/>
              <a:gd name="textAreaBottom" fmla="*/ 73440 h 7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85800" y="35812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3962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25146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504960" y="2590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657240" y="27432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657240" y="2895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73356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809880" y="31240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6248520"/>
            <a:ext cx="121932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37339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36576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438280" y="281916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35812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2819520"/>
            <a:ext cx="5335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286000"/>
            <a:ext cx="15264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4038480"/>
            <a:ext cx="15228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3886200"/>
            <a:ext cx="2286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3962520"/>
            <a:ext cx="15264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9625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3962520"/>
            <a:ext cx="3045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3809880"/>
            <a:ext cx="3812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3886200"/>
            <a:ext cx="2286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4114800"/>
            <a:ext cx="15228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38098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8195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505320" y="25909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391160" y="51814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391520" y="51814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2819520"/>
            <a:ext cx="320040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67080" y="2590920"/>
            <a:ext cx="312444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67480" y="4876920"/>
            <a:ext cx="15264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4419720"/>
            <a:ext cx="759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3733920"/>
            <a:ext cx="763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38152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2960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5308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586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772400" y="54864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6095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57150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55627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3341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267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295280" y="4114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218960" y="41911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4191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3352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514600"/>
            <a:ext cx="6094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1295280" y="396216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895120" y="59436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1600200" y="54097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2590920"/>
            <a:ext cx="10670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6172200" y="61722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962520"/>
            <a:ext cx="19051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18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124080" y="42667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195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14600" y="6553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48520" y="6324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hukoshM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2133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48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197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828800"/>
            <a:ext cx="1676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1800" spc="-1" strike="noStrike" baseline="-6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56840" y="2209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25146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60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1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12133 L 0.077 0.31733 L -0.077 0.31733 L -0.125 0.12133 L 0 0 Z">
                                      <p:cBhvr>
                                        <p:cTn id="6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f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HYDROG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556272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2971800"/>
            <a:ext cx="76176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24480" y="2895480"/>
            <a:ext cx="9907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6324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066680" y="39621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657600" y="4038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3880" y="3657600"/>
            <a:ext cx="6098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3657600"/>
            <a:ext cx="76176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0666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36196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8098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89548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05704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28195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3352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352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2743200"/>
            <a:ext cx="45720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89548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0481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895480" y="3047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3048120"/>
            <a:ext cx="182880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0481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3276720"/>
            <a:ext cx="198108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5867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3962520"/>
            <a:ext cx="15264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52480" y="6019920"/>
            <a:ext cx="15264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63244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4495680" y="4876560"/>
            <a:ext cx="5335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8534520" y="4800240"/>
            <a:ext cx="3808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0" y="5105520"/>
            <a:ext cx="4267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410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0010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5791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43800" y="58672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0120" y="5257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6095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724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6019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01028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781680" y="54100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5334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4952880"/>
            <a:ext cx="2286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29400" y="4419720"/>
            <a:ext cx="15228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781680" y="4648320"/>
            <a:ext cx="3049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858000" y="28195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057400" y="22096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61722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2057400"/>
            <a:ext cx="12193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2590560" y="6095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3048120"/>
            <a:ext cx="68580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6172200"/>
            <a:ext cx="4572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6248520"/>
            <a:ext cx="15228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6095880"/>
            <a:ext cx="6098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6248520"/>
            <a:ext cx="45720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6172200"/>
            <a:ext cx="2286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6019920"/>
            <a:ext cx="38124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5943600"/>
            <a:ext cx="30492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6095880"/>
            <a:ext cx="22860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5715000"/>
            <a:ext cx="26672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66680" y="5943600"/>
            <a:ext cx="25909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0200" y="6248520"/>
            <a:ext cx="38088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6324480"/>
            <a:ext cx="160020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7400" y="61722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6629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81080" y="6400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76520" y="624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6553080"/>
            <a:ext cx="2286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6095880"/>
            <a:ext cx="45720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3720" y="6248520"/>
            <a:ext cx="3045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81080" y="6400800"/>
            <a:ext cx="3812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58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48120" y="5943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71800" y="617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867280"/>
            <a:ext cx="1447560" cy="636840"/>
          </a:xfrm>
          <a:custGeom>
            <a:avLst/>
            <a:gdLst/>
            <a:ahLst/>
            <a:rect l="l" t="t" r="r" b="b"/>
            <a:pathLst>
              <a:path w="1279" h="401">
                <a:moveTo>
                  <a:pt x="949" y="118"/>
                </a:moveTo>
                <a:cubicBezTo>
                  <a:pt x="933" y="134"/>
                  <a:pt x="901" y="143"/>
                  <a:pt x="901" y="166"/>
                </a:cubicBezTo>
                <a:cubicBezTo>
                  <a:pt x="901" y="183"/>
                  <a:pt x="932" y="150"/>
                  <a:pt x="949" y="145"/>
                </a:cubicBezTo>
                <a:cubicBezTo>
                  <a:pt x="1052" y="116"/>
                  <a:pt x="1057" y="126"/>
                  <a:pt x="1162" y="113"/>
                </a:cubicBezTo>
                <a:cubicBezTo>
                  <a:pt x="1183" y="110"/>
                  <a:pt x="1205" y="106"/>
                  <a:pt x="1226" y="102"/>
                </a:cubicBezTo>
                <a:cubicBezTo>
                  <a:pt x="1240" y="99"/>
                  <a:pt x="1279" y="80"/>
                  <a:pt x="1269" y="91"/>
                </a:cubicBezTo>
                <a:cubicBezTo>
                  <a:pt x="1256" y="105"/>
                  <a:pt x="1233" y="104"/>
                  <a:pt x="1216" y="113"/>
                </a:cubicBezTo>
                <a:cubicBezTo>
                  <a:pt x="1146" y="152"/>
                  <a:pt x="1089" y="227"/>
                  <a:pt x="1013" y="251"/>
                </a:cubicBezTo>
                <a:cubicBezTo>
                  <a:pt x="1081" y="265"/>
                  <a:pt x="1147" y="275"/>
                  <a:pt x="1216" y="283"/>
                </a:cubicBezTo>
                <a:cubicBezTo>
                  <a:pt x="1196" y="341"/>
                  <a:pt x="1156" y="381"/>
                  <a:pt x="1098" y="401"/>
                </a:cubicBezTo>
                <a:cubicBezTo>
                  <a:pt x="978" y="387"/>
                  <a:pt x="1024" y="387"/>
                  <a:pt x="938" y="358"/>
                </a:cubicBezTo>
                <a:cubicBezTo>
                  <a:pt x="885" y="277"/>
                  <a:pt x="897" y="211"/>
                  <a:pt x="970" y="155"/>
                </a:cubicBezTo>
                <a:cubicBezTo>
                  <a:pt x="999" y="159"/>
                  <a:pt x="1028" y="161"/>
                  <a:pt x="1056" y="166"/>
                </a:cubicBezTo>
                <a:cubicBezTo>
                  <a:pt x="1070" y="168"/>
                  <a:pt x="1094" y="163"/>
                  <a:pt x="1098" y="177"/>
                </a:cubicBezTo>
                <a:cubicBezTo>
                  <a:pt x="1102" y="189"/>
                  <a:pt x="1078" y="193"/>
                  <a:pt x="1066" y="198"/>
                </a:cubicBezTo>
                <a:cubicBezTo>
                  <a:pt x="1053" y="204"/>
                  <a:pt x="1038" y="208"/>
                  <a:pt x="1024" y="209"/>
                </a:cubicBezTo>
                <a:cubicBezTo>
                  <a:pt x="985" y="212"/>
                  <a:pt x="945" y="209"/>
                  <a:pt x="906" y="209"/>
                </a:cubicBezTo>
                <a:cubicBezTo>
                  <a:pt x="824" y="227"/>
                  <a:pt x="745" y="262"/>
                  <a:pt x="661" y="262"/>
                </a:cubicBezTo>
                <a:cubicBezTo>
                  <a:pt x="643" y="262"/>
                  <a:pt x="677" y="226"/>
                  <a:pt x="672" y="209"/>
                </a:cubicBezTo>
                <a:cubicBezTo>
                  <a:pt x="665" y="184"/>
                  <a:pt x="629" y="145"/>
                  <a:pt x="629" y="145"/>
                </a:cubicBezTo>
                <a:cubicBezTo>
                  <a:pt x="625" y="124"/>
                  <a:pt x="637" y="91"/>
                  <a:pt x="618" y="81"/>
                </a:cubicBezTo>
                <a:cubicBezTo>
                  <a:pt x="599" y="71"/>
                  <a:pt x="619" y="144"/>
                  <a:pt x="597" y="166"/>
                </a:cubicBezTo>
                <a:cubicBezTo>
                  <a:pt x="589" y="174"/>
                  <a:pt x="554" y="177"/>
                  <a:pt x="565" y="177"/>
                </a:cubicBezTo>
                <a:cubicBezTo>
                  <a:pt x="629" y="177"/>
                  <a:pt x="693" y="170"/>
                  <a:pt x="757" y="166"/>
                </a:cubicBezTo>
                <a:cubicBezTo>
                  <a:pt x="760" y="165"/>
                  <a:pt x="839" y="145"/>
                  <a:pt x="757" y="145"/>
                </a:cubicBezTo>
                <a:cubicBezTo>
                  <a:pt x="728" y="145"/>
                  <a:pt x="699" y="157"/>
                  <a:pt x="672" y="166"/>
                </a:cubicBezTo>
                <a:cubicBezTo>
                  <a:pt x="665" y="187"/>
                  <a:pt x="642" y="248"/>
                  <a:pt x="650" y="262"/>
                </a:cubicBezTo>
                <a:cubicBezTo>
                  <a:pt x="659" y="278"/>
                  <a:pt x="686" y="269"/>
                  <a:pt x="704" y="273"/>
                </a:cubicBezTo>
                <a:cubicBezTo>
                  <a:pt x="757" y="262"/>
                  <a:pt x="782" y="262"/>
                  <a:pt x="800" y="209"/>
                </a:cubicBezTo>
                <a:cubicBezTo>
                  <a:pt x="748" y="134"/>
                  <a:pt x="661" y="136"/>
                  <a:pt x="576" y="123"/>
                </a:cubicBezTo>
                <a:cubicBezTo>
                  <a:pt x="458" y="130"/>
                  <a:pt x="385" y="92"/>
                  <a:pt x="352" y="198"/>
                </a:cubicBezTo>
                <a:cubicBezTo>
                  <a:pt x="366" y="273"/>
                  <a:pt x="371" y="262"/>
                  <a:pt x="437" y="294"/>
                </a:cubicBezTo>
                <a:cubicBezTo>
                  <a:pt x="514" y="283"/>
                  <a:pt x="585" y="294"/>
                  <a:pt x="640" y="241"/>
                </a:cubicBezTo>
                <a:cubicBezTo>
                  <a:pt x="643" y="230"/>
                  <a:pt x="656" y="219"/>
                  <a:pt x="650" y="209"/>
                </a:cubicBezTo>
                <a:cubicBezTo>
                  <a:pt x="623" y="164"/>
                  <a:pt x="490" y="195"/>
                  <a:pt x="448" y="198"/>
                </a:cubicBezTo>
                <a:cubicBezTo>
                  <a:pt x="438" y="208"/>
                  <a:pt x="388" y="247"/>
                  <a:pt x="405" y="273"/>
                </a:cubicBezTo>
                <a:cubicBezTo>
                  <a:pt x="415" y="289"/>
                  <a:pt x="440" y="287"/>
                  <a:pt x="458" y="294"/>
                </a:cubicBezTo>
                <a:cubicBezTo>
                  <a:pt x="536" y="290"/>
                  <a:pt x="615" y="280"/>
                  <a:pt x="693" y="283"/>
                </a:cubicBezTo>
                <a:cubicBezTo>
                  <a:pt x="716" y="284"/>
                  <a:pt x="757" y="305"/>
                  <a:pt x="757" y="305"/>
                </a:cubicBezTo>
                <a:cubicBezTo>
                  <a:pt x="718" y="308"/>
                  <a:pt x="677" y="303"/>
                  <a:pt x="640" y="315"/>
                </a:cubicBezTo>
                <a:cubicBezTo>
                  <a:pt x="623" y="321"/>
                  <a:pt x="675" y="326"/>
                  <a:pt x="693" y="326"/>
                </a:cubicBezTo>
                <a:cubicBezTo>
                  <a:pt x="807" y="323"/>
                  <a:pt x="920" y="312"/>
                  <a:pt x="1034" y="305"/>
                </a:cubicBezTo>
                <a:cubicBezTo>
                  <a:pt x="976" y="226"/>
                  <a:pt x="873" y="210"/>
                  <a:pt x="778" y="198"/>
                </a:cubicBezTo>
                <a:cubicBezTo>
                  <a:pt x="721" y="191"/>
                  <a:pt x="608" y="177"/>
                  <a:pt x="608" y="177"/>
                </a:cubicBezTo>
                <a:cubicBezTo>
                  <a:pt x="363" y="191"/>
                  <a:pt x="504" y="184"/>
                  <a:pt x="341" y="230"/>
                </a:cubicBezTo>
                <a:cubicBezTo>
                  <a:pt x="330" y="237"/>
                  <a:pt x="317" y="241"/>
                  <a:pt x="309" y="251"/>
                </a:cubicBezTo>
                <a:cubicBezTo>
                  <a:pt x="299" y="263"/>
                  <a:pt x="304" y="292"/>
                  <a:pt x="288" y="294"/>
                </a:cubicBezTo>
                <a:cubicBezTo>
                  <a:pt x="192" y="304"/>
                  <a:pt x="96" y="287"/>
                  <a:pt x="0" y="283"/>
                </a:cubicBezTo>
                <a:cubicBezTo>
                  <a:pt x="173" y="249"/>
                  <a:pt x="105" y="264"/>
                  <a:pt x="32" y="241"/>
                </a:cubicBezTo>
                <a:cubicBezTo>
                  <a:pt x="57" y="161"/>
                  <a:pt x="31" y="209"/>
                  <a:pt x="192" y="209"/>
                </a:cubicBezTo>
                <a:cubicBezTo>
                  <a:pt x="380" y="163"/>
                  <a:pt x="570" y="123"/>
                  <a:pt x="757" y="70"/>
                </a:cubicBezTo>
                <a:cubicBezTo>
                  <a:pt x="768" y="67"/>
                  <a:pt x="725" y="70"/>
                  <a:pt x="725" y="59"/>
                </a:cubicBezTo>
                <a:cubicBezTo>
                  <a:pt x="725" y="48"/>
                  <a:pt x="746" y="52"/>
                  <a:pt x="757" y="49"/>
                </a:cubicBezTo>
                <a:cubicBezTo>
                  <a:pt x="958" y="60"/>
                  <a:pt x="927" y="0"/>
                  <a:pt x="949" y="11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6095880"/>
            <a:ext cx="709560" cy="244440"/>
          </a:xfrm>
          <a:custGeom>
            <a:avLst/>
            <a:gdLst/>
            <a:ahLst/>
            <a:rect l="l" t="t" r="r" b="b"/>
            <a:pathLst>
              <a:path w="447" h="154">
                <a:moveTo>
                  <a:pt x="0" y="37"/>
                </a:moveTo>
                <a:cubicBezTo>
                  <a:pt x="68" y="41"/>
                  <a:pt x="136" y="36"/>
                  <a:pt x="203" y="48"/>
                </a:cubicBezTo>
                <a:cubicBezTo>
                  <a:pt x="218" y="51"/>
                  <a:pt x="223" y="70"/>
                  <a:pt x="235" y="80"/>
                </a:cubicBezTo>
                <a:cubicBezTo>
                  <a:pt x="266" y="105"/>
                  <a:pt x="270" y="102"/>
                  <a:pt x="309" y="112"/>
                </a:cubicBezTo>
                <a:cubicBezTo>
                  <a:pt x="368" y="92"/>
                  <a:pt x="393" y="87"/>
                  <a:pt x="427" y="37"/>
                </a:cubicBezTo>
                <a:cubicBezTo>
                  <a:pt x="430" y="26"/>
                  <a:pt x="447" y="0"/>
                  <a:pt x="437" y="5"/>
                </a:cubicBezTo>
                <a:cubicBezTo>
                  <a:pt x="421" y="13"/>
                  <a:pt x="413" y="32"/>
                  <a:pt x="405" y="48"/>
                </a:cubicBezTo>
                <a:cubicBezTo>
                  <a:pt x="390" y="78"/>
                  <a:pt x="395" y="124"/>
                  <a:pt x="395" y="1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5562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520" y="2743200"/>
            <a:ext cx="10666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5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58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IL K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00600" y="1676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05920" y="2438280"/>
            <a:ext cx="5331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6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64771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HUKOSH M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924680" y="4267080"/>
            <a:ext cx="3812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848720" y="3809880"/>
            <a:ext cx="91440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5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2514240" y="609588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67080" y="6477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98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9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solidFill>
            <a:srgbClr val="29d149"/>
          </a:solidFill>
          <a:ln w="76320">
            <a:solidFill>
              <a:srgbClr val="66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080c"/>
                </a:solidFill>
                <a:latin typeface="Arial"/>
              </a:rPr>
              <a:t>FOCAL LENGTH OF CONV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32004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53341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2590920"/>
            <a:ext cx="152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76920" y="4648320"/>
            <a:ext cx="15228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666880" y="259056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3200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809880" y="26668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4038120" y="35812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6019560" y="3200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952520" y="2590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95252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76520" y="3352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7924680" y="4647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767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52680" y="5791320"/>
            <a:ext cx="15242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3352680" y="533412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791320" y="464796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52680" y="464796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4648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952880" y="4723920"/>
            <a:ext cx="2971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67480" y="5486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6172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86400" y="4876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59092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971800" y="58669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8077320" y="51811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5028840" y="59432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274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095520" y="4648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11444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solidFill>
            <a:srgbClr val="5cfa60"/>
          </a:solidFill>
          <a:ln w="76320">
            <a:solidFill>
              <a:srgbClr val="33cc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UTSARJAN TAN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32040" y="2268360"/>
            <a:ext cx="1793520" cy="1990800"/>
          </a:xfrm>
          <a:custGeom>
            <a:avLst/>
            <a:gdLst/>
            <a:ahLst/>
            <a:rect l="l" t="t" r="r" b="b"/>
            <a:pathLst>
              <a:path w="1130" h="1254">
                <a:moveTo>
                  <a:pt x="821" y="726"/>
                </a:moveTo>
                <a:cubicBezTo>
                  <a:pt x="825" y="669"/>
                  <a:pt x="813" y="609"/>
                  <a:pt x="832" y="555"/>
                </a:cubicBezTo>
                <a:cubicBezTo>
                  <a:pt x="842" y="526"/>
                  <a:pt x="942" y="490"/>
                  <a:pt x="970" y="480"/>
                </a:cubicBezTo>
                <a:cubicBezTo>
                  <a:pt x="1008" y="444"/>
                  <a:pt x="1037" y="396"/>
                  <a:pt x="1066" y="352"/>
                </a:cubicBezTo>
                <a:cubicBezTo>
                  <a:pt x="1081" y="263"/>
                  <a:pt x="1086" y="291"/>
                  <a:pt x="1130" y="224"/>
                </a:cubicBezTo>
                <a:cubicBezTo>
                  <a:pt x="1115" y="126"/>
                  <a:pt x="1108" y="114"/>
                  <a:pt x="1034" y="54"/>
                </a:cubicBezTo>
                <a:cubicBezTo>
                  <a:pt x="1004" y="30"/>
                  <a:pt x="987" y="13"/>
                  <a:pt x="949" y="0"/>
                </a:cubicBezTo>
                <a:cubicBezTo>
                  <a:pt x="874" y="4"/>
                  <a:pt x="799" y="5"/>
                  <a:pt x="725" y="11"/>
                </a:cubicBezTo>
                <a:cubicBezTo>
                  <a:pt x="664" y="16"/>
                  <a:pt x="582" y="96"/>
                  <a:pt x="533" y="128"/>
                </a:cubicBezTo>
                <a:cubicBezTo>
                  <a:pt x="482" y="203"/>
                  <a:pt x="431" y="273"/>
                  <a:pt x="373" y="342"/>
                </a:cubicBezTo>
                <a:cubicBezTo>
                  <a:pt x="365" y="352"/>
                  <a:pt x="362" y="366"/>
                  <a:pt x="352" y="374"/>
                </a:cubicBezTo>
                <a:cubicBezTo>
                  <a:pt x="333" y="391"/>
                  <a:pt x="306" y="398"/>
                  <a:pt x="288" y="416"/>
                </a:cubicBezTo>
                <a:cubicBezTo>
                  <a:pt x="256" y="448"/>
                  <a:pt x="231" y="488"/>
                  <a:pt x="202" y="523"/>
                </a:cubicBezTo>
                <a:cubicBezTo>
                  <a:pt x="178" y="553"/>
                  <a:pt x="145" y="584"/>
                  <a:pt x="128" y="619"/>
                </a:cubicBezTo>
                <a:cubicBezTo>
                  <a:pt x="123" y="629"/>
                  <a:pt x="123" y="642"/>
                  <a:pt x="117" y="651"/>
                </a:cubicBezTo>
                <a:cubicBezTo>
                  <a:pt x="109" y="664"/>
                  <a:pt x="94" y="671"/>
                  <a:pt x="85" y="683"/>
                </a:cubicBezTo>
                <a:cubicBezTo>
                  <a:pt x="69" y="703"/>
                  <a:pt x="42" y="747"/>
                  <a:pt x="42" y="747"/>
                </a:cubicBezTo>
                <a:cubicBezTo>
                  <a:pt x="9" y="889"/>
                  <a:pt x="0" y="1039"/>
                  <a:pt x="32" y="1184"/>
                </a:cubicBezTo>
                <a:cubicBezTo>
                  <a:pt x="37" y="1206"/>
                  <a:pt x="75" y="1199"/>
                  <a:pt x="96" y="1206"/>
                </a:cubicBezTo>
                <a:cubicBezTo>
                  <a:pt x="142" y="1221"/>
                  <a:pt x="187" y="1237"/>
                  <a:pt x="234" y="1248"/>
                </a:cubicBezTo>
                <a:cubicBezTo>
                  <a:pt x="376" y="1245"/>
                  <a:pt x="520" y="1254"/>
                  <a:pt x="661" y="1238"/>
                </a:cubicBezTo>
                <a:cubicBezTo>
                  <a:pt x="681" y="1236"/>
                  <a:pt x="704" y="1195"/>
                  <a:pt x="704" y="1195"/>
                </a:cubicBezTo>
                <a:cubicBezTo>
                  <a:pt x="711" y="1174"/>
                  <a:pt x="724" y="1153"/>
                  <a:pt x="725" y="1131"/>
                </a:cubicBezTo>
                <a:cubicBezTo>
                  <a:pt x="729" y="1010"/>
                  <a:pt x="706" y="885"/>
                  <a:pt x="736" y="768"/>
                </a:cubicBezTo>
                <a:cubicBezTo>
                  <a:pt x="743" y="740"/>
                  <a:pt x="793" y="761"/>
                  <a:pt x="821" y="758"/>
                </a:cubicBezTo>
                <a:cubicBezTo>
                  <a:pt x="847" y="730"/>
                  <a:pt x="851" y="740"/>
                  <a:pt x="821" y="726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79720" y="1947960"/>
            <a:ext cx="3421080" cy="3298680"/>
          </a:xfrm>
          <a:custGeom>
            <a:avLst/>
            <a:gdLst/>
            <a:ahLst/>
            <a:rect l="l" t="t" r="r" b="b"/>
            <a:pathLst>
              <a:path w="2155" h="2078">
                <a:moveTo>
                  <a:pt x="790" y="704"/>
                </a:moveTo>
                <a:cubicBezTo>
                  <a:pt x="826" y="722"/>
                  <a:pt x="849" y="744"/>
                  <a:pt x="886" y="757"/>
                </a:cubicBezTo>
                <a:cubicBezTo>
                  <a:pt x="905" y="838"/>
                  <a:pt x="913" y="853"/>
                  <a:pt x="886" y="970"/>
                </a:cubicBezTo>
                <a:cubicBezTo>
                  <a:pt x="880" y="995"/>
                  <a:pt x="857" y="1013"/>
                  <a:pt x="843" y="1034"/>
                </a:cubicBezTo>
                <a:cubicBezTo>
                  <a:pt x="830" y="1053"/>
                  <a:pt x="829" y="1077"/>
                  <a:pt x="822" y="1098"/>
                </a:cubicBezTo>
                <a:cubicBezTo>
                  <a:pt x="807" y="1144"/>
                  <a:pt x="794" y="1191"/>
                  <a:pt x="779" y="1237"/>
                </a:cubicBezTo>
                <a:cubicBezTo>
                  <a:pt x="775" y="1248"/>
                  <a:pt x="768" y="1269"/>
                  <a:pt x="768" y="1269"/>
                </a:cubicBezTo>
                <a:cubicBezTo>
                  <a:pt x="772" y="1322"/>
                  <a:pt x="774" y="1376"/>
                  <a:pt x="779" y="1429"/>
                </a:cubicBezTo>
                <a:cubicBezTo>
                  <a:pt x="780" y="1440"/>
                  <a:pt x="784" y="1498"/>
                  <a:pt x="811" y="1504"/>
                </a:cubicBezTo>
                <a:cubicBezTo>
                  <a:pt x="853" y="1513"/>
                  <a:pt x="896" y="1510"/>
                  <a:pt x="939" y="1514"/>
                </a:cubicBezTo>
                <a:cubicBezTo>
                  <a:pt x="978" y="1517"/>
                  <a:pt x="1017" y="1521"/>
                  <a:pt x="1056" y="1525"/>
                </a:cubicBezTo>
                <a:cubicBezTo>
                  <a:pt x="1202" y="1521"/>
                  <a:pt x="1349" y="1530"/>
                  <a:pt x="1494" y="1514"/>
                </a:cubicBezTo>
                <a:cubicBezTo>
                  <a:pt x="1514" y="1512"/>
                  <a:pt x="1521" y="1484"/>
                  <a:pt x="1536" y="1472"/>
                </a:cubicBezTo>
                <a:cubicBezTo>
                  <a:pt x="1600" y="1420"/>
                  <a:pt x="1597" y="1430"/>
                  <a:pt x="1675" y="1408"/>
                </a:cubicBezTo>
                <a:cubicBezTo>
                  <a:pt x="1689" y="1397"/>
                  <a:pt x="1705" y="1389"/>
                  <a:pt x="1718" y="1376"/>
                </a:cubicBezTo>
                <a:cubicBezTo>
                  <a:pt x="1731" y="1363"/>
                  <a:pt x="1736" y="1344"/>
                  <a:pt x="1750" y="1333"/>
                </a:cubicBezTo>
                <a:cubicBezTo>
                  <a:pt x="1798" y="1294"/>
                  <a:pt x="1854" y="1279"/>
                  <a:pt x="1910" y="1258"/>
                </a:cubicBezTo>
                <a:cubicBezTo>
                  <a:pt x="1924" y="1185"/>
                  <a:pt x="1952" y="1162"/>
                  <a:pt x="2006" y="1109"/>
                </a:cubicBezTo>
                <a:cubicBezTo>
                  <a:pt x="2029" y="1063"/>
                  <a:pt x="2036" y="1016"/>
                  <a:pt x="2059" y="970"/>
                </a:cubicBezTo>
                <a:cubicBezTo>
                  <a:pt x="2074" y="867"/>
                  <a:pt x="2121" y="771"/>
                  <a:pt x="2155" y="672"/>
                </a:cubicBezTo>
                <a:cubicBezTo>
                  <a:pt x="2135" y="615"/>
                  <a:pt x="2093" y="572"/>
                  <a:pt x="2059" y="522"/>
                </a:cubicBezTo>
                <a:cubicBezTo>
                  <a:pt x="2027" y="474"/>
                  <a:pt x="1987" y="440"/>
                  <a:pt x="1952" y="394"/>
                </a:cubicBezTo>
                <a:cubicBezTo>
                  <a:pt x="1929" y="364"/>
                  <a:pt x="1908" y="322"/>
                  <a:pt x="1878" y="298"/>
                </a:cubicBezTo>
                <a:cubicBezTo>
                  <a:pt x="1794" y="230"/>
                  <a:pt x="1890" y="319"/>
                  <a:pt x="1824" y="256"/>
                </a:cubicBezTo>
                <a:cubicBezTo>
                  <a:pt x="1821" y="245"/>
                  <a:pt x="1821" y="233"/>
                  <a:pt x="1814" y="224"/>
                </a:cubicBezTo>
                <a:cubicBezTo>
                  <a:pt x="1806" y="214"/>
                  <a:pt x="1792" y="210"/>
                  <a:pt x="1782" y="202"/>
                </a:cubicBezTo>
                <a:cubicBezTo>
                  <a:pt x="1732" y="162"/>
                  <a:pt x="1696" y="122"/>
                  <a:pt x="1632" y="106"/>
                </a:cubicBezTo>
                <a:cubicBezTo>
                  <a:pt x="1621" y="99"/>
                  <a:pt x="1611" y="91"/>
                  <a:pt x="1600" y="85"/>
                </a:cubicBezTo>
                <a:cubicBezTo>
                  <a:pt x="1590" y="80"/>
                  <a:pt x="1578" y="79"/>
                  <a:pt x="1568" y="74"/>
                </a:cubicBezTo>
                <a:cubicBezTo>
                  <a:pt x="1546" y="62"/>
                  <a:pt x="1528" y="40"/>
                  <a:pt x="1504" y="32"/>
                </a:cubicBezTo>
                <a:cubicBezTo>
                  <a:pt x="1462" y="18"/>
                  <a:pt x="1418" y="13"/>
                  <a:pt x="1376" y="0"/>
                </a:cubicBezTo>
                <a:cubicBezTo>
                  <a:pt x="1262" y="3"/>
                  <a:pt x="1148" y="0"/>
                  <a:pt x="1035" y="10"/>
                </a:cubicBezTo>
                <a:cubicBezTo>
                  <a:pt x="1025" y="11"/>
                  <a:pt x="1024" y="29"/>
                  <a:pt x="1014" y="32"/>
                </a:cubicBezTo>
                <a:cubicBezTo>
                  <a:pt x="983" y="40"/>
                  <a:pt x="950" y="39"/>
                  <a:pt x="918" y="42"/>
                </a:cubicBezTo>
                <a:cubicBezTo>
                  <a:pt x="890" y="70"/>
                  <a:pt x="874" y="103"/>
                  <a:pt x="843" y="128"/>
                </a:cubicBezTo>
                <a:cubicBezTo>
                  <a:pt x="797" y="166"/>
                  <a:pt x="821" y="130"/>
                  <a:pt x="779" y="181"/>
                </a:cubicBezTo>
                <a:cubicBezTo>
                  <a:pt x="744" y="223"/>
                  <a:pt x="711" y="271"/>
                  <a:pt x="672" y="309"/>
                </a:cubicBezTo>
                <a:cubicBezTo>
                  <a:pt x="644" y="395"/>
                  <a:pt x="578" y="543"/>
                  <a:pt x="704" y="576"/>
                </a:cubicBezTo>
                <a:cubicBezTo>
                  <a:pt x="746" y="616"/>
                  <a:pt x="728" y="667"/>
                  <a:pt x="758" y="704"/>
                </a:cubicBezTo>
                <a:cubicBezTo>
                  <a:pt x="779" y="729"/>
                  <a:pt x="815" y="730"/>
                  <a:pt x="843" y="736"/>
                </a:cubicBezTo>
                <a:cubicBezTo>
                  <a:pt x="768" y="739"/>
                  <a:pt x="693" y="738"/>
                  <a:pt x="619" y="746"/>
                </a:cubicBezTo>
                <a:cubicBezTo>
                  <a:pt x="597" y="748"/>
                  <a:pt x="555" y="768"/>
                  <a:pt x="555" y="768"/>
                </a:cubicBezTo>
                <a:cubicBezTo>
                  <a:pt x="541" y="782"/>
                  <a:pt x="528" y="798"/>
                  <a:pt x="512" y="810"/>
                </a:cubicBezTo>
                <a:cubicBezTo>
                  <a:pt x="503" y="817"/>
                  <a:pt x="489" y="815"/>
                  <a:pt x="480" y="821"/>
                </a:cubicBezTo>
                <a:cubicBezTo>
                  <a:pt x="444" y="845"/>
                  <a:pt x="452" y="854"/>
                  <a:pt x="427" y="885"/>
                </a:cubicBezTo>
                <a:cubicBezTo>
                  <a:pt x="402" y="915"/>
                  <a:pt x="383" y="926"/>
                  <a:pt x="352" y="949"/>
                </a:cubicBezTo>
                <a:cubicBezTo>
                  <a:pt x="264" y="1083"/>
                  <a:pt x="389" y="887"/>
                  <a:pt x="320" y="1013"/>
                </a:cubicBezTo>
                <a:cubicBezTo>
                  <a:pt x="276" y="1093"/>
                  <a:pt x="222" y="1151"/>
                  <a:pt x="192" y="1237"/>
                </a:cubicBezTo>
                <a:cubicBezTo>
                  <a:pt x="184" y="1261"/>
                  <a:pt x="158" y="1277"/>
                  <a:pt x="150" y="1301"/>
                </a:cubicBezTo>
                <a:cubicBezTo>
                  <a:pt x="138" y="1336"/>
                  <a:pt x="119" y="1362"/>
                  <a:pt x="107" y="1397"/>
                </a:cubicBezTo>
                <a:cubicBezTo>
                  <a:pt x="99" y="1545"/>
                  <a:pt x="83" y="1690"/>
                  <a:pt x="128" y="1834"/>
                </a:cubicBezTo>
                <a:cubicBezTo>
                  <a:pt x="115" y="1971"/>
                  <a:pt x="133" y="1958"/>
                  <a:pt x="0" y="1973"/>
                </a:cubicBezTo>
                <a:cubicBezTo>
                  <a:pt x="18" y="2078"/>
                  <a:pt x="27" y="2050"/>
                  <a:pt x="139" y="2037"/>
                </a:cubicBezTo>
                <a:cubicBezTo>
                  <a:pt x="146" y="2026"/>
                  <a:pt x="157" y="2017"/>
                  <a:pt x="160" y="2005"/>
                </a:cubicBezTo>
                <a:cubicBezTo>
                  <a:pt x="168" y="1974"/>
                  <a:pt x="154" y="1936"/>
                  <a:pt x="171" y="1909"/>
                </a:cubicBezTo>
                <a:cubicBezTo>
                  <a:pt x="179" y="1897"/>
                  <a:pt x="200" y="1916"/>
                  <a:pt x="214" y="1920"/>
                </a:cubicBezTo>
                <a:cubicBezTo>
                  <a:pt x="261" y="1770"/>
                  <a:pt x="95" y="1334"/>
                  <a:pt x="320" y="1280"/>
                </a:cubicBezTo>
                <a:cubicBezTo>
                  <a:pt x="401" y="1224"/>
                  <a:pt x="307" y="1299"/>
                  <a:pt x="363" y="1216"/>
                </a:cubicBezTo>
                <a:cubicBezTo>
                  <a:pt x="370" y="1205"/>
                  <a:pt x="385" y="1203"/>
                  <a:pt x="395" y="1194"/>
                </a:cubicBezTo>
                <a:cubicBezTo>
                  <a:pt x="417" y="1174"/>
                  <a:pt x="438" y="1151"/>
                  <a:pt x="459" y="1130"/>
                </a:cubicBezTo>
                <a:cubicBezTo>
                  <a:pt x="470" y="1119"/>
                  <a:pt x="491" y="1098"/>
                  <a:pt x="491" y="1098"/>
                </a:cubicBezTo>
                <a:cubicBezTo>
                  <a:pt x="511" y="1021"/>
                  <a:pt x="555" y="934"/>
                  <a:pt x="630" y="896"/>
                </a:cubicBezTo>
                <a:cubicBezTo>
                  <a:pt x="661" y="881"/>
                  <a:pt x="705" y="879"/>
                  <a:pt x="736" y="874"/>
                </a:cubicBezTo>
                <a:cubicBezTo>
                  <a:pt x="797" y="878"/>
                  <a:pt x="918" y="885"/>
                  <a:pt x="918" y="8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343400" y="20574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3505320"/>
            <a:ext cx="1531800" cy="2473200"/>
          </a:xfrm>
          <a:custGeom>
            <a:avLst/>
            <a:gdLst/>
            <a:ahLst/>
            <a:rect l="l" t="t" r="r" b="b"/>
            <a:pathLst>
              <a:path w="965" h="1558">
                <a:moveTo>
                  <a:pt x="439" y="1173"/>
                </a:moveTo>
                <a:cubicBezTo>
                  <a:pt x="396" y="1132"/>
                  <a:pt x="419" y="1162"/>
                  <a:pt x="396" y="1066"/>
                </a:cubicBezTo>
                <a:cubicBezTo>
                  <a:pt x="391" y="1044"/>
                  <a:pt x="375" y="1002"/>
                  <a:pt x="375" y="1002"/>
                </a:cubicBezTo>
                <a:cubicBezTo>
                  <a:pt x="391" y="801"/>
                  <a:pt x="347" y="845"/>
                  <a:pt x="567" y="832"/>
                </a:cubicBezTo>
                <a:cubicBezTo>
                  <a:pt x="668" y="797"/>
                  <a:pt x="836" y="748"/>
                  <a:pt x="876" y="864"/>
                </a:cubicBezTo>
                <a:cubicBezTo>
                  <a:pt x="880" y="896"/>
                  <a:pt x="875" y="930"/>
                  <a:pt x="887" y="960"/>
                </a:cubicBezTo>
                <a:cubicBezTo>
                  <a:pt x="891" y="970"/>
                  <a:pt x="918" y="959"/>
                  <a:pt x="919" y="970"/>
                </a:cubicBezTo>
                <a:cubicBezTo>
                  <a:pt x="926" y="1059"/>
                  <a:pt x="965" y="1224"/>
                  <a:pt x="855" y="1258"/>
                </a:cubicBezTo>
                <a:cubicBezTo>
                  <a:pt x="837" y="1276"/>
                  <a:pt x="815" y="1291"/>
                  <a:pt x="801" y="1312"/>
                </a:cubicBezTo>
                <a:cubicBezTo>
                  <a:pt x="794" y="1323"/>
                  <a:pt x="790" y="1336"/>
                  <a:pt x="780" y="1344"/>
                </a:cubicBezTo>
                <a:cubicBezTo>
                  <a:pt x="771" y="1351"/>
                  <a:pt x="759" y="1351"/>
                  <a:pt x="748" y="1354"/>
                </a:cubicBezTo>
                <a:cubicBezTo>
                  <a:pt x="732" y="1402"/>
                  <a:pt x="728" y="1437"/>
                  <a:pt x="695" y="1472"/>
                </a:cubicBezTo>
                <a:cubicBezTo>
                  <a:pt x="591" y="1436"/>
                  <a:pt x="653" y="1448"/>
                  <a:pt x="503" y="1461"/>
                </a:cubicBezTo>
                <a:cubicBezTo>
                  <a:pt x="470" y="1558"/>
                  <a:pt x="476" y="1509"/>
                  <a:pt x="705" y="1482"/>
                </a:cubicBezTo>
                <a:cubicBezTo>
                  <a:pt x="716" y="1481"/>
                  <a:pt x="684" y="1474"/>
                  <a:pt x="673" y="1472"/>
                </a:cubicBezTo>
                <a:cubicBezTo>
                  <a:pt x="605" y="1462"/>
                  <a:pt x="546" y="1460"/>
                  <a:pt x="481" y="1440"/>
                </a:cubicBezTo>
                <a:cubicBezTo>
                  <a:pt x="380" y="1334"/>
                  <a:pt x="526" y="1354"/>
                  <a:pt x="428" y="1141"/>
                </a:cubicBezTo>
                <a:cubicBezTo>
                  <a:pt x="413" y="1108"/>
                  <a:pt x="357" y="1134"/>
                  <a:pt x="321" y="1130"/>
                </a:cubicBezTo>
                <a:cubicBezTo>
                  <a:pt x="300" y="1127"/>
                  <a:pt x="278" y="1123"/>
                  <a:pt x="257" y="1120"/>
                </a:cubicBezTo>
                <a:cubicBezTo>
                  <a:pt x="222" y="1108"/>
                  <a:pt x="196" y="1089"/>
                  <a:pt x="161" y="1077"/>
                </a:cubicBezTo>
                <a:cubicBezTo>
                  <a:pt x="109" y="997"/>
                  <a:pt x="170" y="1099"/>
                  <a:pt x="129" y="1002"/>
                </a:cubicBezTo>
                <a:cubicBezTo>
                  <a:pt x="124" y="990"/>
                  <a:pt x="114" y="981"/>
                  <a:pt x="108" y="970"/>
                </a:cubicBezTo>
                <a:cubicBezTo>
                  <a:pt x="103" y="960"/>
                  <a:pt x="101" y="949"/>
                  <a:pt x="97" y="938"/>
                </a:cubicBezTo>
                <a:cubicBezTo>
                  <a:pt x="98" y="933"/>
                  <a:pt x="110" y="787"/>
                  <a:pt x="129" y="768"/>
                </a:cubicBezTo>
                <a:cubicBezTo>
                  <a:pt x="150" y="747"/>
                  <a:pt x="186" y="752"/>
                  <a:pt x="215" y="746"/>
                </a:cubicBezTo>
                <a:cubicBezTo>
                  <a:pt x="273" y="708"/>
                  <a:pt x="225" y="733"/>
                  <a:pt x="321" y="714"/>
                </a:cubicBezTo>
                <a:cubicBezTo>
                  <a:pt x="375" y="703"/>
                  <a:pt x="429" y="688"/>
                  <a:pt x="481" y="672"/>
                </a:cubicBezTo>
                <a:cubicBezTo>
                  <a:pt x="527" y="626"/>
                  <a:pt x="553" y="568"/>
                  <a:pt x="599" y="522"/>
                </a:cubicBezTo>
                <a:cubicBezTo>
                  <a:pt x="611" y="483"/>
                  <a:pt x="618" y="444"/>
                  <a:pt x="631" y="405"/>
                </a:cubicBezTo>
                <a:cubicBezTo>
                  <a:pt x="624" y="352"/>
                  <a:pt x="621" y="298"/>
                  <a:pt x="609" y="245"/>
                </a:cubicBezTo>
                <a:cubicBezTo>
                  <a:pt x="606" y="233"/>
                  <a:pt x="591" y="225"/>
                  <a:pt x="588" y="213"/>
                </a:cubicBezTo>
                <a:cubicBezTo>
                  <a:pt x="580" y="182"/>
                  <a:pt x="591" y="146"/>
                  <a:pt x="577" y="117"/>
                </a:cubicBezTo>
                <a:cubicBezTo>
                  <a:pt x="547" y="52"/>
                  <a:pt x="470" y="35"/>
                  <a:pt x="417" y="0"/>
                </a:cubicBezTo>
                <a:cubicBezTo>
                  <a:pt x="411" y="18"/>
                  <a:pt x="375" y="93"/>
                  <a:pt x="407" y="117"/>
                </a:cubicBezTo>
                <a:cubicBezTo>
                  <a:pt x="427" y="132"/>
                  <a:pt x="456" y="124"/>
                  <a:pt x="481" y="128"/>
                </a:cubicBezTo>
                <a:cubicBezTo>
                  <a:pt x="475" y="403"/>
                  <a:pt x="577" y="573"/>
                  <a:pt x="343" y="650"/>
                </a:cubicBezTo>
                <a:cubicBezTo>
                  <a:pt x="302" y="663"/>
                  <a:pt x="258" y="657"/>
                  <a:pt x="215" y="661"/>
                </a:cubicBezTo>
                <a:cubicBezTo>
                  <a:pt x="171" y="676"/>
                  <a:pt x="131" y="670"/>
                  <a:pt x="97" y="704"/>
                </a:cubicBezTo>
                <a:cubicBezTo>
                  <a:pt x="72" y="780"/>
                  <a:pt x="95" y="756"/>
                  <a:pt x="44" y="789"/>
                </a:cubicBezTo>
                <a:cubicBezTo>
                  <a:pt x="37" y="800"/>
                  <a:pt x="28" y="809"/>
                  <a:pt x="23" y="821"/>
                </a:cubicBezTo>
                <a:cubicBezTo>
                  <a:pt x="14" y="842"/>
                  <a:pt x="1" y="885"/>
                  <a:pt x="1" y="885"/>
                </a:cubicBezTo>
                <a:cubicBezTo>
                  <a:pt x="5" y="949"/>
                  <a:pt x="0" y="1014"/>
                  <a:pt x="12" y="1077"/>
                </a:cubicBezTo>
                <a:cubicBezTo>
                  <a:pt x="19" y="1111"/>
                  <a:pt x="91" y="1124"/>
                  <a:pt x="108" y="1130"/>
                </a:cubicBezTo>
                <a:cubicBezTo>
                  <a:pt x="119" y="1134"/>
                  <a:pt x="140" y="1141"/>
                  <a:pt x="140" y="1141"/>
                </a:cubicBezTo>
                <a:cubicBezTo>
                  <a:pt x="147" y="1152"/>
                  <a:pt x="153" y="1163"/>
                  <a:pt x="161" y="1173"/>
                </a:cubicBezTo>
                <a:cubicBezTo>
                  <a:pt x="174" y="1188"/>
                  <a:pt x="204" y="1216"/>
                  <a:pt x="204" y="1216"/>
                </a:cubicBezTo>
                <a:cubicBezTo>
                  <a:pt x="233" y="1326"/>
                  <a:pt x="364" y="1269"/>
                  <a:pt x="471" y="12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0" y="4724280"/>
            <a:ext cx="6094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715000" y="19051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590560" y="1600200"/>
            <a:ext cx="3886200" cy="609480"/>
          </a:xfrm>
          <a:prstGeom prst="line">
            <a:avLst/>
          </a:prstGeom>
          <a:ln w="9360">
            <a:solidFill>
              <a:srgbClr val="c40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10280" y="1523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VRIK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3352680" y="4571640"/>
            <a:ext cx="2438640" cy="152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58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MUTRA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2666880" y="5790960"/>
            <a:ext cx="1524240" cy="228600"/>
          </a:xfrm>
          <a:prstGeom prst="line">
            <a:avLst/>
          </a:prstGeom>
          <a:ln w="9360">
            <a:solidFill>
              <a:srgbClr val="c408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5791320"/>
            <a:ext cx="2133360" cy="36828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MUTRA MA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3048120" y="5333760"/>
            <a:ext cx="3200400" cy="75960"/>
          </a:xfrm>
          <a:prstGeom prst="line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00800" y="5105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MUTRAS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4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209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234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cc"/>
                </a:solidFill>
                <a:latin typeface="Arial"/>
              </a:rPr>
              <a:t>SWAS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9900cc"/>
                </a:solidFill>
                <a:latin typeface="Arial"/>
              </a:rPr>
              <a:t>TANT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1981080"/>
            <a:ext cx="1905120" cy="1447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0" y="4267080"/>
            <a:ext cx="4876920" cy="1981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3657600"/>
            <a:ext cx="914400" cy="762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5181120" y="34290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114800" y="3429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2514240" y="4190760"/>
            <a:ext cx="1981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334120" y="4267080"/>
            <a:ext cx="1523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78160" y="3467160"/>
            <a:ext cx="3492360" cy="3278160"/>
          </a:xfrm>
          <a:custGeom>
            <a:avLst/>
            <a:gdLst/>
            <a:ahLst/>
            <a:rect l="l" t="t" r="r" b="b"/>
            <a:pathLst>
              <a:path w="2200" h="2065">
                <a:moveTo>
                  <a:pt x="698" y="1336"/>
                </a:moveTo>
                <a:cubicBezTo>
                  <a:pt x="670" y="1299"/>
                  <a:pt x="617" y="1251"/>
                  <a:pt x="602" y="1208"/>
                </a:cubicBezTo>
                <a:cubicBezTo>
                  <a:pt x="595" y="1187"/>
                  <a:pt x="580" y="1144"/>
                  <a:pt x="580" y="1144"/>
                </a:cubicBezTo>
                <a:cubicBezTo>
                  <a:pt x="569" y="1043"/>
                  <a:pt x="579" y="1017"/>
                  <a:pt x="484" y="984"/>
                </a:cubicBezTo>
                <a:cubicBezTo>
                  <a:pt x="421" y="921"/>
                  <a:pt x="348" y="909"/>
                  <a:pt x="260" y="899"/>
                </a:cubicBezTo>
                <a:cubicBezTo>
                  <a:pt x="225" y="902"/>
                  <a:pt x="188" y="900"/>
                  <a:pt x="154" y="909"/>
                </a:cubicBezTo>
                <a:cubicBezTo>
                  <a:pt x="144" y="912"/>
                  <a:pt x="141" y="926"/>
                  <a:pt x="132" y="931"/>
                </a:cubicBezTo>
                <a:cubicBezTo>
                  <a:pt x="109" y="942"/>
                  <a:pt x="82" y="944"/>
                  <a:pt x="58" y="952"/>
                </a:cubicBezTo>
                <a:cubicBezTo>
                  <a:pt x="44" y="966"/>
                  <a:pt x="13" y="975"/>
                  <a:pt x="15" y="995"/>
                </a:cubicBezTo>
                <a:cubicBezTo>
                  <a:pt x="19" y="1034"/>
                  <a:pt x="14" y="1075"/>
                  <a:pt x="26" y="1112"/>
                </a:cubicBezTo>
                <a:cubicBezTo>
                  <a:pt x="30" y="1124"/>
                  <a:pt x="48" y="1125"/>
                  <a:pt x="58" y="1133"/>
                </a:cubicBezTo>
                <a:cubicBezTo>
                  <a:pt x="133" y="1194"/>
                  <a:pt x="13" y="1112"/>
                  <a:pt x="111" y="1176"/>
                </a:cubicBezTo>
                <a:cubicBezTo>
                  <a:pt x="141" y="1380"/>
                  <a:pt x="244" y="1696"/>
                  <a:pt x="26" y="1805"/>
                </a:cubicBezTo>
                <a:cubicBezTo>
                  <a:pt x="0" y="1882"/>
                  <a:pt x="35" y="1877"/>
                  <a:pt x="79" y="1923"/>
                </a:cubicBezTo>
                <a:cubicBezTo>
                  <a:pt x="99" y="1980"/>
                  <a:pt x="146" y="1971"/>
                  <a:pt x="207" y="1976"/>
                </a:cubicBezTo>
                <a:cubicBezTo>
                  <a:pt x="482" y="2001"/>
                  <a:pt x="272" y="1974"/>
                  <a:pt x="442" y="1997"/>
                </a:cubicBezTo>
                <a:cubicBezTo>
                  <a:pt x="1027" y="1984"/>
                  <a:pt x="773" y="2065"/>
                  <a:pt x="1007" y="1912"/>
                </a:cubicBezTo>
                <a:cubicBezTo>
                  <a:pt x="1011" y="1901"/>
                  <a:pt x="1022" y="1891"/>
                  <a:pt x="1018" y="1880"/>
                </a:cubicBezTo>
                <a:cubicBezTo>
                  <a:pt x="1013" y="1866"/>
                  <a:pt x="944" y="1799"/>
                  <a:pt x="932" y="1784"/>
                </a:cubicBezTo>
                <a:cubicBezTo>
                  <a:pt x="887" y="1726"/>
                  <a:pt x="858" y="1654"/>
                  <a:pt x="804" y="1603"/>
                </a:cubicBezTo>
                <a:cubicBezTo>
                  <a:pt x="778" y="1525"/>
                  <a:pt x="770" y="1438"/>
                  <a:pt x="708" y="1379"/>
                </a:cubicBezTo>
                <a:cubicBezTo>
                  <a:pt x="753" y="1267"/>
                  <a:pt x="702" y="1348"/>
                  <a:pt x="890" y="1315"/>
                </a:cubicBezTo>
                <a:cubicBezTo>
                  <a:pt x="912" y="1311"/>
                  <a:pt x="924" y="1284"/>
                  <a:pt x="943" y="1272"/>
                </a:cubicBezTo>
                <a:cubicBezTo>
                  <a:pt x="970" y="1189"/>
                  <a:pt x="948" y="1224"/>
                  <a:pt x="1007" y="1165"/>
                </a:cubicBezTo>
                <a:cubicBezTo>
                  <a:pt x="1018" y="1154"/>
                  <a:pt x="1039" y="1133"/>
                  <a:pt x="1039" y="1133"/>
                </a:cubicBezTo>
                <a:cubicBezTo>
                  <a:pt x="1068" y="1049"/>
                  <a:pt x="1177" y="1097"/>
                  <a:pt x="1252" y="1101"/>
                </a:cubicBezTo>
                <a:cubicBezTo>
                  <a:pt x="1273" y="1108"/>
                  <a:pt x="1295" y="1116"/>
                  <a:pt x="1316" y="1123"/>
                </a:cubicBezTo>
                <a:cubicBezTo>
                  <a:pt x="1326" y="1126"/>
                  <a:pt x="1329" y="1139"/>
                  <a:pt x="1338" y="1144"/>
                </a:cubicBezTo>
                <a:cubicBezTo>
                  <a:pt x="1351" y="1150"/>
                  <a:pt x="1366" y="1151"/>
                  <a:pt x="1380" y="1155"/>
                </a:cubicBezTo>
                <a:cubicBezTo>
                  <a:pt x="1387" y="1162"/>
                  <a:pt x="1393" y="1172"/>
                  <a:pt x="1402" y="1176"/>
                </a:cubicBezTo>
                <a:cubicBezTo>
                  <a:pt x="1422" y="1186"/>
                  <a:pt x="1466" y="1197"/>
                  <a:pt x="1466" y="1197"/>
                </a:cubicBezTo>
                <a:cubicBezTo>
                  <a:pt x="1498" y="1230"/>
                  <a:pt x="1537" y="1277"/>
                  <a:pt x="1583" y="1293"/>
                </a:cubicBezTo>
                <a:cubicBezTo>
                  <a:pt x="1627" y="1308"/>
                  <a:pt x="1606" y="1298"/>
                  <a:pt x="1647" y="1325"/>
                </a:cubicBezTo>
                <a:cubicBezTo>
                  <a:pt x="1683" y="1322"/>
                  <a:pt x="1724" y="1335"/>
                  <a:pt x="1754" y="1315"/>
                </a:cubicBezTo>
                <a:cubicBezTo>
                  <a:pt x="1798" y="1286"/>
                  <a:pt x="1719" y="1245"/>
                  <a:pt x="1711" y="1240"/>
                </a:cubicBezTo>
                <a:cubicBezTo>
                  <a:pt x="1687" y="1166"/>
                  <a:pt x="1706" y="1192"/>
                  <a:pt x="1668" y="1155"/>
                </a:cubicBezTo>
                <a:cubicBezTo>
                  <a:pt x="1654" y="1111"/>
                  <a:pt x="1630" y="1065"/>
                  <a:pt x="1604" y="1027"/>
                </a:cubicBezTo>
                <a:cubicBezTo>
                  <a:pt x="1613" y="976"/>
                  <a:pt x="1612" y="945"/>
                  <a:pt x="1647" y="909"/>
                </a:cubicBezTo>
                <a:cubicBezTo>
                  <a:pt x="1747" y="913"/>
                  <a:pt x="1847" y="910"/>
                  <a:pt x="1946" y="920"/>
                </a:cubicBezTo>
                <a:cubicBezTo>
                  <a:pt x="1984" y="924"/>
                  <a:pt x="2005" y="968"/>
                  <a:pt x="2031" y="995"/>
                </a:cubicBezTo>
                <a:cubicBezTo>
                  <a:pt x="2049" y="1013"/>
                  <a:pt x="2074" y="1059"/>
                  <a:pt x="2074" y="1059"/>
                </a:cubicBezTo>
                <a:cubicBezTo>
                  <a:pt x="2086" y="1110"/>
                  <a:pt x="2110" y="1148"/>
                  <a:pt x="2127" y="1197"/>
                </a:cubicBezTo>
                <a:cubicBezTo>
                  <a:pt x="2130" y="1244"/>
                  <a:pt x="2132" y="1341"/>
                  <a:pt x="2148" y="1400"/>
                </a:cubicBezTo>
                <a:cubicBezTo>
                  <a:pt x="2154" y="1422"/>
                  <a:pt x="2170" y="1464"/>
                  <a:pt x="2170" y="1464"/>
                </a:cubicBezTo>
                <a:cubicBezTo>
                  <a:pt x="2173" y="1571"/>
                  <a:pt x="2180" y="1677"/>
                  <a:pt x="2180" y="1784"/>
                </a:cubicBezTo>
                <a:cubicBezTo>
                  <a:pt x="2180" y="1816"/>
                  <a:pt x="2200" y="1869"/>
                  <a:pt x="2170" y="1880"/>
                </a:cubicBezTo>
                <a:cubicBezTo>
                  <a:pt x="2083" y="1912"/>
                  <a:pt x="1985" y="1887"/>
                  <a:pt x="1892" y="1891"/>
                </a:cubicBezTo>
                <a:cubicBezTo>
                  <a:pt x="1874" y="1894"/>
                  <a:pt x="1857" y="1899"/>
                  <a:pt x="1839" y="1901"/>
                </a:cubicBezTo>
                <a:cubicBezTo>
                  <a:pt x="1789" y="1906"/>
                  <a:pt x="1739" y="1904"/>
                  <a:pt x="1690" y="1912"/>
                </a:cubicBezTo>
                <a:cubicBezTo>
                  <a:pt x="1660" y="1917"/>
                  <a:pt x="1634" y="1936"/>
                  <a:pt x="1604" y="1944"/>
                </a:cubicBezTo>
                <a:cubicBezTo>
                  <a:pt x="1500" y="1936"/>
                  <a:pt x="1461" y="1965"/>
                  <a:pt x="1434" y="1880"/>
                </a:cubicBezTo>
                <a:cubicBezTo>
                  <a:pt x="1437" y="1837"/>
                  <a:pt x="1438" y="1794"/>
                  <a:pt x="1444" y="1752"/>
                </a:cubicBezTo>
                <a:cubicBezTo>
                  <a:pt x="1445" y="1741"/>
                  <a:pt x="1446" y="1727"/>
                  <a:pt x="1455" y="1720"/>
                </a:cubicBezTo>
                <a:cubicBezTo>
                  <a:pt x="1504" y="1686"/>
                  <a:pt x="1674" y="1689"/>
                  <a:pt x="1690" y="1688"/>
                </a:cubicBezTo>
                <a:cubicBezTo>
                  <a:pt x="1713" y="1613"/>
                  <a:pt x="1658" y="1514"/>
                  <a:pt x="1743" y="1485"/>
                </a:cubicBezTo>
                <a:cubicBezTo>
                  <a:pt x="1729" y="1482"/>
                  <a:pt x="1715" y="1476"/>
                  <a:pt x="1700" y="1475"/>
                </a:cubicBezTo>
                <a:cubicBezTo>
                  <a:pt x="1640" y="1469"/>
                  <a:pt x="1579" y="1473"/>
                  <a:pt x="1519" y="1464"/>
                </a:cubicBezTo>
                <a:cubicBezTo>
                  <a:pt x="1496" y="1461"/>
                  <a:pt x="1482" y="1434"/>
                  <a:pt x="1466" y="1421"/>
                </a:cubicBezTo>
                <a:cubicBezTo>
                  <a:pt x="1430" y="1392"/>
                  <a:pt x="1403" y="1361"/>
                  <a:pt x="1359" y="1347"/>
                </a:cubicBezTo>
                <a:cubicBezTo>
                  <a:pt x="1317" y="1303"/>
                  <a:pt x="1362" y="1343"/>
                  <a:pt x="1306" y="1315"/>
                </a:cubicBezTo>
                <a:cubicBezTo>
                  <a:pt x="1275" y="1299"/>
                  <a:pt x="1249" y="1270"/>
                  <a:pt x="1220" y="1251"/>
                </a:cubicBezTo>
                <a:cubicBezTo>
                  <a:pt x="1215" y="1236"/>
                  <a:pt x="1206" y="1175"/>
                  <a:pt x="1188" y="1251"/>
                </a:cubicBezTo>
                <a:cubicBezTo>
                  <a:pt x="1180" y="1285"/>
                  <a:pt x="1202" y="1356"/>
                  <a:pt x="1156" y="1379"/>
                </a:cubicBezTo>
                <a:cubicBezTo>
                  <a:pt x="1136" y="1389"/>
                  <a:pt x="1111" y="1388"/>
                  <a:pt x="1092" y="1400"/>
                </a:cubicBezTo>
                <a:cubicBezTo>
                  <a:pt x="989" y="1468"/>
                  <a:pt x="896" y="1457"/>
                  <a:pt x="772" y="1464"/>
                </a:cubicBezTo>
                <a:cubicBezTo>
                  <a:pt x="761" y="1468"/>
                  <a:pt x="750" y="1470"/>
                  <a:pt x="740" y="1475"/>
                </a:cubicBezTo>
                <a:cubicBezTo>
                  <a:pt x="729" y="1481"/>
                  <a:pt x="720" y="1491"/>
                  <a:pt x="708" y="1496"/>
                </a:cubicBezTo>
                <a:cubicBezTo>
                  <a:pt x="657" y="1518"/>
                  <a:pt x="601" y="1525"/>
                  <a:pt x="548" y="1539"/>
                </a:cubicBezTo>
                <a:cubicBezTo>
                  <a:pt x="531" y="1592"/>
                  <a:pt x="519" y="1591"/>
                  <a:pt x="463" y="1603"/>
                </a:cubicBezTo>
                <a:cubicBezTo>
                  <a:pt x="442" y="1599"/>
                  <a:pt x="415" y="1606"/>
                  <a:pt x="399" y="1592"/>
                </a:cubicBezTo>
                <a:cubicBezTo>
                  <a:pt x="382" y="1577"/>
                  <a:pt x="378" y="1528"/>
                  <a:pt x="378" y="1528"/>
                </a:cubicBezTo>
                <a:cubicBezTo>
                  <a:pt x="408" y="1398"/>
                  <a:pt x="537" y="1409"/>
                  <a:pt x="644" y="1400"/>
                </a:cubicBezTo>
                <a:cubicBezTo>
                  <a:pt x="655" y="1393"/>
                  <a:pt x="670" y="1390"/>
                  <a:pt x="676" y="1379"/>
                </a:cubicBezTo>
                <a:cubicBezTo>
                  <a:pt x="686" y="1360"/>
                  <a:pt x="666" y="1322"/>
                  <a:pt x="687" y="1315"/>
                </a:cubicBezTo>
                <a:cubicBezTo>
                  <a:pt x="754" y="1292"/>
                  <a:pt x="829" y="1308"/>
                  <a:pt x="900" y="1304"/>
                </a:cubicBezTo>
                <a:cubicBezTo>
                  <a:pt x="979" y="1277"/>
                  <a:pt x="879" y="1322"/>
                  <a:pt x="943" y="1208"/>
                </a:cubicBezTo>
                <a:cubicBezTo>
                  <a:pt x="950" y="1195"/>
                  <a:pt x="972" y="1201"/>
                  <a:pt x="986" y="1197"/>
                </a:cubicBezTo>
                <a:cubicBezTo>
                  <a:pt x="989" y="1169"/>
                  <a:pt x="980" y="1136"/>
                  <a:pt x="996" y="1112"/>
                </a:cubicBezTo>
                <a:cubicBezTo>
                  <a:pt x="1012" y="1087"/>
                  <a:pt x="1054" y="1100"/>
                  <a:pt x="1082" y="1091"/>
                </a:cubicBezTo>
                <a:cubicBezTo>
                  <a:pt x="1066" y="1075"/>
                  <a:pt x="1055" y="1053"/>
                  <a:pt x="1039" y="1037"/>
                </a:cubicBezTo>
                <a:cubicBezTo>
                  <a:pt x="1019" y="1017"/>
                  <a:pt x="995" y="1004"/>
                  <a:pt x="975" y="984"/>
                </a:cubicBezTo>
                <a:cubicBezTo>
                  <a:pt x="956" y="929"/>
                  <a:pt x="969" y="959"/>
                  <a:pt x="922" y="888"/>
                </a:cubicBezTo>
                <a:cubicBezTo>
                  <a:pt x="915" y="877"/>
                  <a:pt x="900" y="856"/>
                  <a:pt x="900" y="856"/>
                </a:cubicBezTo>
                <a:cubicBezTo>
                  <a:pt x="897" y="842"/>
                  <a:pt x="897" y="826"/>
                  <a:pt x="890" y="813"/>
                </a:cubicBezTo>
                <a:cubicBezTo>
                  <a:pt x="885" y="804"/>
                  <a:pt x="873" y="801"/>
                  <a:pt x="868" y="792"/>
                </a:cubicBezTo>
                <a:cubicBezTo>
                  <a:pt x="858" y="772"/>
                  <a:pt x="854" y="749"/>
                  <a:pt x="847" y="728"/>
                </a:cubicBezTo>
                <a:cubicBezTo>
                  <a:pt x="843" y="717"/>
                  <a:pt x="840" y="707"/>
                  <a:pt x="836" y="696"/>
                </a:cubicBezTo>
                <a:cubicBezTo>
                  <a:pt x="833" y="685"/>
                  <a:pt x="826" y="664"/>
                  <a:pt x="826" y="664"/>
                </a:cubicBezTo>
                <a:cubicBezTo>
                  <a:pt x="829" y="614"/>
                  <a:pt x="827" y="564"/>
                  <a:pt x="836" y="515"/>
                </a:cubicBezTo>
                <a:cubicBezTo>
                  <a:pt x="838" y="505"/>
                  <a:pt x="853" y="502"/>
                  <a:pt x="858" y="493"/>
                </a:cubicBezTo>
                <a:cubicBezTo>
                  <a:pt x="864" y="483"/>
                  <a:pt x="865" y="472"/>
                  <a:pt x="868" y="461"/>
                </a:cubicBezTo>
                <a:cubicBezTo>
                  <a:pt x="875" y="369"/>
                  <a:pt x="875" y="317"/>
                  <a:pt x="900" y="237"/>
                </a:cubicBezTo>
                <a:cubicBezTo>
                  <a:pt x="890" y="25"/>
                  <a:pt x="834" y="0"/>
                  <a:pt x="996" y="24"/>
                </a:cubicBezTo>
                <a:cubicBezTo>
                  <a:pt x="1121" y="143"/>
                  <a:pt x="1006" y="306"/>
                  <a:pt x="964" y="429"/>
                </a:cubicBezTo>
                <a:cubicBezTo>
                  <a:pt x="979" y="812"/>
                  <a:pt x="903" y="645"/>
                  <a:pt x="1039" y="739"/>
                </a:cubicBezTo>
                <a:cubicBezTo>
                  <a:pt x="1047" y="893"/>
                  <a:pt x="1007" y="951"/>
                  <a:pt x="1135" y="995"/>
                </a:cubicBezTo>
                <a:cubicBezTo>
                  <a:pt x="1142" y="1016"/>
                  <a:pt x="1149" y="1038"/>
                  <a:pt x="1156" y="1059"/>
                </a:cubicBezTo>
                <a:cubicBezTo>
                  <a:pt x="1159" y="1069"/>
                  <a:pt x="1172" y="1072"/>
                  <a:pt x="1178" y="1080"/>
                </a:cubicBezTo>
                <a:cubicBezTo>
                  <a:pt x="1183" y="1086"/>
                  <a:pt x="1185" y="1094"/>
                  <a:pt x="1188" y="11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95680" y="2438280"/>
            <a:ext cx="1446480" cy="2828880"/>
          </a:xfrm>
          <a:custGeom>
            <a:avLst/>
            <a:gdLst/>
            <a:ahLst/>
            <a:rect l="l" t="t" r="r" b="b"/>
            <a:pathLst>
              <a:path w="911" h="1782">
                <a:moveTo>
                  <a:pt x="134" y="683"/>
                </a:moveTo>
                <a:cubicBezTo>
                  <a:pt x="130" y="655"/>
                  <a:pt x="133" y="625"/>
                  <a:pt x="123" y="598"/>
                </a:cubicBezTo>
                <a:cubicBezTo>
                  <a:pt x="114" y="574"/>
                  <a:pt x="80" y="534"/>
                  <a:pt x="80" y="534"/>
                </a:cubicBezTo>
                <a:cubicBezTo>
                  <a:pt x="73" y="513"/>
                  <a:pt x="66" y="491"/>
                  <a:pt x="59" y="470"/>
                </a:cubicBezTo>
                <a:cubicBezTo>
                  <a:pt x="55" y="459"/>
                  <a:pt x="48" y="438"/>
                  <a:pt x="48" y="438"/>
                </a:cubicBezTo>
                <a:cubicBezTo>
                  <a:pt x="55" y="336"/>
                  <a:pt x="33" y="202"/>
                  <a:pt x="155" y="171"/>
                </a:cubicBezTo>
                <a:cubicBezTo>
                  <a:pt x="162" y="160"/>
                  <a:pt x="164" y="142"/>
                  <a:pt x="176" y="139"/>
                </a:cubicBezTo>
                <a:cubicBezTo>
                  <a:pt x="235" y="124"/>
                  <a:pt x="358" y="118"/>
                  <a:pt x="358" y="118"/>
                </a:cubicBezTo>
                <a:cubicBezTo>
                  <a:pt x="410" y="39"/>
                  <a:pt x="460" y="26"/>
                  <a:pt x="550" y="11"/>
                </a:cubicBezTo>
                <a:cubicBezTo>
                  <a:pt x="632" y="15"/>
                  <a:pt x="716" y="0"/>
                  <a:pt x="795" y="22"/>
                </a:cubicBezTo>
                <a:cubicBezTo>
                  <a:pt x="817" y="28"/>
                  <a:pt x="809" y="65"/>
                  <a:pt x="816" y="86"/>
                </a:cubicBezTo>
                <a:cubicBezTo>
                  <a:pt x="820" y="98"/>
                  <a:pt x="831" y="107"/>
                  <a:pt x="838" y="118"/>
                </a:cubicBezTo>
                <a:cubicBezTo>
                  <a:pt x="721" y="158"/>
                  <a:pt x="911" y="96"/>
                  <a:pt x="582" y="139"/>
                </a:cubicBezTo>
                <a:cubicBezTo>
                  <a:pt x="572" y="140"/>
                  <a:pt x="569" y="156"/>
                  <a:pt x="560" y="161"/>
                </a:cubicBezTo>
                <a:cubicBezTo>
                  <a:pt x="540" y="171"/>
                  <a:pt x="496" y="182"/>
                  <a:pt x="496" y="182"/>
                </a:cubicBezTo>
                <a:cubicBezTo>
                  <a:pt x="574" y="209"/>
                  <a:pt x="660" y="200"/>
                  <a:pt x="742" y="214"/>
                </a:cubicBezTo>
                <a:cubicBezTo>
                  <a:pt x="758" y="282"/>
                  <a:pt x="737" y="238"/>
                  <a:pt x="784" y="278"/>
                </a:cubicBezTo>
                <a:cubicBezTo>
                  <a:pt x="799" y="291"/>
                  <a:pt x="827" y="321"/>
                  <a:pt x="827" y="321"/>
                </a:cubicBezTo>
                <a:cubicBezTo>
                  <a:pt x="740" y="378"/>
                  <a:pt x="709" y="284"/>
                  <a:pt x="635" y="278"/>
                </a:cubicBezTo>
                <a:cubicBezTo>
                  <a:pt x="561" y="272"/>
                  <a:pt x="486" y="271"/>
                  <a:pt x="411" y="267"/>
                </a:cubicBezTo>
                <a:cubicBezTo>
                  <a:pt x="400" y="264"/>
                  <a:pt x="389" y="263"/>
                  <a:pt x="379" y="257"/>
                </a:cubicBezTo>
                <a:cubicBezTo>
                  <a:pt x="370" y="252"/>
                  <a:pt x="368" y="236"/>
                  <a:pt x="358" y="235"/>
                </a:cubicBezTo>
                <a:cubicBezTo>
                  <a:pt x="329" y="232"/>
                  <a:pt x="301" y="242"/>
                  <a:pt x="272" y="246"/>
                </a:cubicBezTo>
                <a:cubicBezTo>
                  <a:pt x="279" y="253"/>
                  <a:pt x="285" y="263"/>
                  <a:pt x="294" y="267"/>
                </a:cubicBezTo>
                <a:cubicBezTo>
                  <a:pt x="408" y="316"/>
                  <a:pt x="380" y="168"/>
                  <a:pt x="336" y="491"/>
                </a:cubicBezTo>
                <a:cubicBezTo>
                  <a:pt x="332" y="522"/>
                  <a:pt x="251" y="534"/>
                  <a:pt x="251" y="534"/>
                </a:cubicBezTo>
                <a:cubicBezTo>
                  <a:pt x="237" y="709"/>
                  <a:pt x="282" y="700"/>
                  <a:pt x="123" y="715"/>
                </a:cubicBezTo>
                <a:cubicBezTo>
                  <a:pt x="162" y="719"/>
                  <a:pt x="204" y="711"/>
                  <a:pt x="240" y="726"/>
                </a:cubicBezTo>
                <a:cubicBezTo>
                  <a:pt x="250" y="730"/>
                  <a:pt x="239" y="751"/>
                  <a:pt x="230" y="758"/>
                </a:cubicBezTo>
                <a:cubicBezTo>
                  <a:pt x="212" y="771"/>
                  <a:pt x="187" y="772"/>
                  <a:pt x="166" y="779"/>
                </a:cubicBezTo>
                <a:cubicBezTo>
                  <a:pt x="155" y="783"/>
                  <a:pt x="134" y="790"/>
                  <a:pt x="134" y="790"/>
                </a:cubicBezTo>
                <a:cubicBezTo>
                  <a:pt x="141" y="811"/>
                  <a:pt x="148" y="833"/>
                  <a:pt x="155" y="854"/>
                </a:cubicBezTo>
                <a:cubicBezTo>
                  <a:pt x="162" y="875"/>
                  <a:pt x="198" y="868"/>
                  <a:pt x="219" y="875"/>
                </a:cubicBezTo>
                <a:cubicBezTo>
                  <a:pt x="246" y="884"/>
                  <a:pt x="276" y="882"/>
                  <a:pt x="304" y="886"/>
                </a:cubicBezTo>
                <a:cubicBezTo>
                  <a:pt x="293" y="893"/>
                  <a:pt x="284" y="903"/>
                  <a:pt x="272" y="907"/>
                </a:cubicBezTo>
                <a:cubicBezTo>
                  <a:pt x="255" y="913"/>
                  <a:pt x="235" y="909"/>
                  <a:pt x="219" y="918"/>
                </a:cubicBezTo>
                <a:cubicBezTo>
                  <a:pt x="208" y="924"/>
                  <a:pt x="208" y="942"/>
                  <a:pt x="198" y="950"/>
                </a:cubicBezTo>
                <a:cubicBezTo>
                  <a:pt x="189" y="957"/>
                  <a:pt x="177" y="957"/>
                  <a:pt x="166" y="961"/>
                </a:cubicBezTo>
                <a:cubicBezTo>
                  <a:pt x="161" y="968"/>
                  <a:pt x="128" y="1010"/>
                  <a:pt x="134" y="1025"/>
                </a:cubicBezTo>
                <a:cubicBezTo>
                  <a:pt x="144" y="1048"/>
                  <a:pt x="207" y="1054"/>
                  <a:pt x="219" y="1057"/>
                </a:cubicBezTo>
                <a:cubicBezTo>
                  <a:pt x="198" y="1064"/>
                  <a:pt x="176" y="1071"/>
                  <a:pt x="155" y="1078"/>
                </a:cubicBezTo>
                <a:cubicBezTo>
                  <a:pt x="144" y="1082"/>
                  <a:pt x="123" y="1089"/>
                  <a:pt x="123" y="1089"/>
                </a:cubicBezTo>
                <a:cubicBezTo>
                  <a:pt x="130" y="1091"/>
                  <a:pt x="196" y="1112"/>
                  <a:pt x="198" y="1110"/>
                </a:cubicBezTo>
                <a:cubicBezTo>
                  <a:pt x="207" y="1101"/>
                  <a:pt x="185" y="1087"/>
                  <a:pt x="176" y="1078"/>
                </a:cubicBezTo>
                <a:cubicBezTo>
                  <a:pt x="156" y="1058"/>
                  <a:pt x="137" y="1055"/>
                  <a:pt x="112" y="1046"/>
                </a:cubicBezTo>
                <a:cubicBezTo>
                  <a:pt x="116" y="1060"/>
                  <a:pt x="111" y="1080"/>
                  <a:pt x="123" y="1089"/>
                </a:cubicBezTo>
                <a:cubicBezTo>
                  <a:pt x="132" y="1096"/>
                  <a:pt x="150" y="1088"/>
                  <a:pt x="155" y="1078"/>
                </a:cubicBezTo>
                <a:cubicBezTo>
                  <a:pt x="160" y="1068"/>
                  <a:pt x="148" y="1057"/>
                  <a:pt x="144" y="1046"/>
                </a:cubicBezTo>
                <a:cubicBezTo>
                  <a:pt x="141" y="1057"/>
                  <a:pt x="123" y="1075"/>
                  <a:pt x="134" y="1078"/>
                </a:cubicBezTo>
                <a:cubicBezTo>
                  <a:pt x="158" y="1086"/>
                  <a:pt x="194" y="1088"/>
                  <a:pt x="208" y="1067"/>
                </a:cubicBezTo>
                <a:cubicBezTo>
                  <a:pt x="224" y="1043"/>
                  <a:pt x="209" y="1008"/>
                  <a:pt x="198" y="982"/>
                </a:cubicBezTo>
                <a:cubicBezTo>
                  <a:pt x="193" y="972"/>
                  <a:pt x="177" y="975"/>
                  <a:pt x="166" y="971"/>
                </a:cubicBezTo>
                <a:cubicBezTo>
                  <a:pt x="155" y="975"/>
                  <a:pt x="123" y="982"/>
                  <a:pt x="134" y="982"/>
                </a:cubicBezTo>
                <a:cubicBezTo>
                  <a:pt x="166" y="982"/>
                  <a:pt x="204" y="990"/>
                  <a:pt x="230" y="971"/>
                </a:cubicBezTo>
                <a:cubicBezTo>
                  <a:pt x="244" y="960"/>
                  <a:pt x="223" y="936"/>
                  <a:pt x="219" y="918"/>
                </a:cubicBezTo>
                <a:cubicBezTo>
                  <a:pt x="194" y="922"/>
                  <a:pt x="163" y="913"/>
                  <a:pt x="144" y="929"/>
                </a:cubicBezTo>
                <a:cubicBezTo>
                  <a:pt x="133" y="938"/>
                  <a:pt x="143" y="964"/>
                  <a:pt x="155" y="971"/>
                </a:cubicBezTo>
                <a:cubicBezTo>
                  <a:pt x="168" y="979"/>
                  <a:pt x="184" y="964"/>
                  <a:pt x="198" y="961"/>
                </a:cubicBezTo>
                <a:cubicBezTo>
                  <a:pt x="201" y="943"/>
                  <a:pt x="198" y="922"/>
                  <a:pt x="208" y="907"/>
                </a:cubicBezTo>
                <a:cubicBezTo>
                  <a:pt x="214" y="898"/>
                  <a:pt x="236" y="907"/>
                  <a:pt x="240" y="897"/>
                </a:cubicBezTo>
                <a:cubicBezTo>
                  <a:pt x="255" y="860"/>
                  <a:pt x="218" y="846"/>
                  <a:pt x="198" y="833"/>
                </a:cubicBezTo>
                <a:cubicBezTo>
                  <a:pt x="226" y="829"/>
                  <a:pt x="258" y="835"/>
                  <a:pt x="283" y="822"/>
                </a:cubicBezTo>
                <a:cubicBezTo>
                  <a:pt x="296" y="815"/>
                  <a:pt x="254" y="814"/>
                  <a:pt x="240" y="811"/>
                </a:cubicBezTo>
                <a:cubicBezTo>
                  <a:pt x="118" y="784"/>
                  <a:pt x="250" y="817"/>
                  <a:pt x="144" y="790"/>
                </a:cubicBezTo>
                <a:cubicBezTo>
                  <a:pt x="170" y="865"/>
                  <a:pt x="201" y="843"/>
                  <a:pt x="262" y="822"/>
                </a:cubicBezTo>
                <a:cubicBezTo>
                  <a:pt x="269" y="811"/>
                  <a:pt x="288" y="802"/>
                  <a:pt x="283" y="790"/>
                </a:cubicBezTo>
                <a:cubicBezTo>
                  <a:pt x="279" y="781"/>
                  <a:pt x="220" y="762"/>
                  <a:pt x="208" y="758"/>
                </a:cubicBezTo>
                <a:cubicBezTo>
                  <a:pt x="190" y="762"/>
                  <a:pt x="165" y="754"/>
                  <a:pt x="155" y="769"/>
                </a:cubicBezTo>
                <a:cubicBezTo>
                  <a:pt x="150" y="776"/>
                  <a:pt x="172" y="840"/>
                  <a:pt x="176" y="854"/>
                </a:cubicBezTo>
                <a:cubicBezTo>
                  <a:pt x="171" y="904"/>
                  <a:pt x="149" y="976"/>
                  <a:pt x="166" y="1025"/>
                </a:cubicBezTo>
                <a:cubicBezTo>
                  <a:pt x="162" y="1064"/>
                  <a:pt x="163" y="1104"/>
                  <a:pt x="155" y="1142"/>
                </a:cubicBezTo>
                <a:cubicBezTo>
                  <a:pt x="143" y="1197"/>
                  <a:pt x="77" y="1162"/>
                  <a:pt x="144" y="1259"/>
                </a:cubicBezTo>
                <a:cubicBezTo>
                  <a:pt x="157" y="1278"/>
                  <a:pt x="208" y="1281"/>
                  <a:pt x="208" y="1281"/>
                </a:cubicBezTo>
                <a:cubicBezTo>
                  <a:pt x="215" y="1274"/>
                  <a:pt x="230" y="1269"/>
                  <a:pt x="230" y="1259"/>
                </a:cubicBezTo>
                <a:cubicBezTo>
                  <a:pt x="230" y="1241"/>
                  <a:pt x="159" y="1211"/>
                  <a:pt x="144" y="1206"/>
                </a:cubicBezTo>
                <a:cubicBezTo>
                  <a:pt x="137" y="1217"/>
                  <a:pt x="120" y="1226"/>
                  <a:pt x="123" y="1238"/>
                </a:cubicBezTo>
                <a:cubicBezTo>
                  <a:pt x="131" y="1276"/>
                  <a:pt x="172" y="1254"/>
                  <a:pt x="187" y="1249"/>
                </a:cubicBezTo>
                <a:cubicBezTo>
                  <a:pt x="171" y="1169"/>
                  <a:pt x="166" y="1194"/>
                  <a:pt x="91" y="1163"/>
                </a:cubicBezTo>
                <a:cubicBezTo>
                  <a:pt x="84" y="1170"/>
                  <a:pt x="67" y="1175"/>
                  <a:pt x="70" y="1185"/>
                </a:cubicBezTo>
                <a:cubicBezTo>
                  <a:pt x="74" y="1199"/>
                  <a:pt x="123" y="1213"/>
                  <a:pt x="134" y="1217"/>
                </a:cubicBezTo>
                <a:cubicBezTo>
                  <a:pt x="113" y="1220"/>
                  <a:pt x="82" y="1209"/>
                  <a:pt x="70" y="1227"/>
                </a:cubicBezTo>
                <a:cubicBezTo>
                  <a:pt x="0" y="1337"/>
                  <a:pt x="115" y="1295"/>
                  <a:pt x="134" y="1291"/>
                </a:cubicBezTo>
                <a:cubicBezTo>
                  <a:pt x="130" y="1277"/>
                  <a:pt x="137" y="1253"/>
                  <a:pt x="123" y="1249"/>
                </a:cubicBezTo>
                <a:cubicBezTo>
                  <a:pt x="111" y="1245"/>
                  <a:pt x="104" y="1268"/>
                  <a:pt x="102" y="1281"/>
                </a:cubicBezTo>
                <a:cubicBezTo>
                  <a:pt x="100" y="1292"/>
                  <a:pt x="103" y="1306"/>
                  <a:pt x="112" y="1313"/>
                </a:cubicBezTo>
                <a:cubicBezTo>
                  <a:pt x="130" y="1326"/>
                  <a:pt x="176" y="1334"/>
                  <a:pt x="176" y="1334"/>
                </a:cubicBezTo>
                <a:cubicBezTo>
                  <a:pt x="183" y="1327"/>
                  <a:pt x="208" y="1314"/>
                  <a:pt x="198" y="1313"/>
                </a:cubicBezTo>
                <a:cubicBezTo>
                  <a:pt x="162" y="1308"/>
                  <a:pt x="121" y="1303"/>
                  <a:pt x="91" y="1323"/>
                </a:cubicBezTo>
                <a:cubicBezTo>
                  <a:pt x="76" y="1333"/>
                  <a:pt x="98" y="1359"/>
                  <a:pt x="102" y="1377"/>
                </a:cubicBezTo>
                <a:cubicBezTo>
                  <a:pt x="112" y="1419"/>
                  <a:pt x="125" y="1438"/>
                  <a:pt x="166" y="1451"/>
                </a:cubicBezTo>
                <a:cubicBezTo>
                  <a:pt x="196" y="1405"/>
                  <a:pt x="199" y="1394"/>
                  <a:pt x="144" y="1377"/>
                </a:cubicBezTo>
                <a:cubicBezTo>
                  <a:pt x="133" y="1380"/>
                  <a:pt x="115" y="1376"/>
                  <a:pt x="112" y="1387"/>
                </a:cubicBezTo>
                <a:cubicBezTo>
                  <a:pt x="102" y="1418"/>
                  <a:pt x="198" y="1430"/>
                  <a:pt x="198" y="1430"/>
                </a:cubicBezTo>
                <a:cubicBezTo>
                  <a:pt x="212" y="1426"/>
                  <a:pt x="246" y="1432"/>
                  <a:pt x="240" y="1419"/>
                </a:cubicBezTo>
                <a:cubicBezTo>
                  <a:pt x="230" y="1395"/>
                  <a:pt x="176" y="1377"/>
                  <a:pt x="176" y="1377"/>
                </a:cubicBezTo>
                <a:cubicBezTo>
                  <a:pt x="158" y="1380"/>
                  <a:pt x="136" y="1374"/>
                  <a:pt x="123" y="1387"/>
                </a:cubicBezTo>
                <a:cubicBezTo>
                  <a:pt x="95" y="1415"/>
                  <a:pt x="166" y="1430"/>
                  <a:pt x="166" y="1430"/>
                </a:cubicBezTo>
                <a:cubicBezTo>
                  <a:pt x="187" y="1496"/>
                  <a:pt x="229" y="1476"/>
                  <a:pt x="283" y="1462"/>
                </a:cubicBezTo>
                <a:cubicBezTo>
                  <a:pt x="261" y="1456"/>
                  <a:pt x="194" y="1433"/>
                  <a:pt x="176" y="1462"/>
                </a:cubicBezTo>
                <a:cubicBezTo>
                  <a:pt x="163" y="1484"/>
                  <a:pt x="183" y="1512"/>
                  <a:pt x="187" y="1537"/>
                </a:cubicBezTo>
                <a:cubicBezTo>
                  <a:pt x="219" y="1533"/>
                  <a:pt x="255" y="1542"/>
                  <a:pt x="283" y="1526"/>
                </a:cubicBezTo>
                <a:cubicBezTo>
                  <a:pt x="294" y="1520"/>
                  <a:pt x="272" y="1502"/>
                  <a:pt x="262" y="1494"/>
                </a:cubicBezTo>
                <a:cubicBezTo>
                  <a:pt x="253" y="1487"/>
                  <a:pt x="241" y="1487"/>
                  <a:pt x="230" y="1483"/>
                </a:cubicBezTo>
                <a:cubicBezTo>
                  <a:pt x="198" y="1487"/>
                  <a:pt x="163" y="1480"/>
                  <a:pt x="134" y="1494"/>
                </a:cubicBezTo>
                <a:cubicBezTo>
                  <a:pt x="124" y="1499"/>
                  <a:pt x="134" y="1521"/>
                  <a:pt x="144" y="1526"/>
                </a:cubicBezTo>
                <a:cubicBezTo>
                  <a:pt x="170" y="1538"/>
                  <a:pt x="201" y="1533"/>
                  <a:pt x="230" y="1537"/>
                </a:cubicBezTo>
                <a:cubicBezTo>
                  <a:pt x="233" y="1562"/>
                  <a:pt x="227" y="1590"/>
                  <a:pt x="240" y="1611"/>
                </a:cubicBezTo>
                <a:cubicBezTo>
                  <a:pt x="245" y="1620"/>
                  <a:pt x="265" y="1600"/>
                  <a:pt x="262" y="1590"/>
                </a:cubicBezTo>
                <a:cubicBezTo>
                  <a:pt x="259" y="1579"/>
                  <a:pt x="219" y="1579"/>
                  <a:pt x="230" y="1579"/>
                </a:cubicBezTo>
                <a:cubicBezTo>
                  <a:pt x="255" y="1579"/>
                  <a:pt x="279" y="1586"/>
                  <a:pt x="304" y="1590"/>
                </a:cubicBezTo>
                <a:cubicBezTo>
                  <a:pt x="293" y="1597"/>
                  <a:pt x="284" y="1606"/>
                  <a:pt x="272" y="1611"/>
                </a:cubicBezTo>
                <a:cubicBezTo>
                  <a:pt x="259" y="1617"/>
                  <a:pt x="239" y="1610"/>
                  <a:pt x="230" y="1622"/>
                </a:cubicBezTo>
                <a:cubicBezTo>
                  <a:pt x="223" y="1631"/>
                  <a:pt x="237" y="1643"/>
                  <a:pt x="240" y="1654"/>
                </a:cubicBezTo>
                <a:cubicBezTo>
                  <a:pt x="261" y="1650"/>
                  <a:pt x="304" y="1665"/>
                  <a:pt x="304" y="1643"/>
                </a:cubicBezTo>
                <a:cubicBezTo>
                  <a:pt x="304" y="1621"/>
                  <a:pt x="240" y="1622"/>
                  <a:pt x="240" y="1622"/>
                </a:cubicBezTo>
                <a:cubicBezTo>
                  <a:pt x="237" y="1633"/>
                  <a:pt x="222" y="1646"/>
                  <a:pt x="230" y="1654"/>
                </a:cubicBezTo>
                <a:cubicBezTo>
                  <a:pt x="246" y="1670"/>
                  <a:pt x="273" y="1668"/>
                  <a:pt x="294" y="1675"/>
                </a:cubicBezTo>
                <a:cubicBezTo>
                  <a:pt x="305" y="1679"/>
                  <a:pt x="326" y="1686"/>
                  <a:pt x="326" y="1686"/>
                </a:cubicBezTo>
                <a:cubicBezTo>
                  <a:pt x="312" y="1690"/>
                  <a:pt x="291" y="1684"/>
                  <a:pt x="283" y="1697"/>
                </a:cubicBezTo>
                <a:cubicBezTo>
                  <a:pt x="276" y="1709"/>
                  <a:pt x="281" y="1733"/>
                  <a:pt x="294" y="1739"/>
                </a:cubicBezTo>
                <a:cubicBezTo>
                  <a:pt x="314" y="1747"/>
                  <a:pt x="337" y="1732"/>
                  <a:pt x="358" y="1729"/>
                </a:cubicBezTo>
                <a:cubicBezTo>
                  <a:pt x="354" y="1718"/>
                  <a:pt x="355" y="1705"/>
                  <a:pt x="347" y="1697"/>
                </a:cubicBezTo>
                <a:cubicBezTo>
                  <a:pt x="339" y="1689"/>
                  <a:pt x="326" y="1686"/>
                  <a:pt x="315" y="1686"/>
                </a:cubicBezTo>
                <a:cubicBezTo>
                  <a:pt x="304" y="1686"/>
                  <a:pt x="272" y="1697"/>
                  <a:pt x="283" y="1697"/>
                </a:cubicBezTo>
                <a:cubicBezTo>
                  <a:pt x="305" y="1697"/>
                  <a:pt x="326" y="1690"/>
                  <a:pt x="347" y="1686"/>
                </a:cubicBezTo>
                <a:cubicBezTo>
                  <a:pt x="329" y="1635"/>
                  <a:pt x="313" y="1645"/>
                  <a:pt x="262" y="1633"/>
                </a:cubicBezTo>
                <a:cubicBezTo>
                  <a:pt x="255" y="1608"/>
                  <a:pt x="254" y="1580"/>
                  <a:pt x="240" y="1558"/>
                </a:cubicBezTo>
                <a:cubicBezTo>
                  <a:pt x="231" y="1545"/>
                  <a:pt x="211" y="1546"/>
                  <a:pt x="198" y="1537"/>
                </a:cubicBezTo>
                <a:cubicBezTo>
                  <a:pt x="189" y="1531"/>
                  <a:pt x="183" y="1522"/>
                  <a:pt x="176" y="1515"/>
                </a:cubicBezTo>
                <a:cubicBezTo>
                  <a:pt x="180" y="1526"/>
                  <a:pt x="176" y="1544"/>
                  <a:pt x="187" y="1547"/>
                </a:cubicBezTo>
                <a:cubicBezTo>
                  <a:pt x="249" y="1565"/>
                  <a:pt x="273" y="1532"/>
                  <a:pt x="240" y="1483"/>
                </a:cubicBezTo>
                <a:cubicBezTo>
                  <a:pt x="234" y="1474"/>
                  <a:pt x="219" y="1476"/>
                  <a:pt x="208" y="1473"/>
                </a:cubicBezTo>
                <a:cubicBezTo>
                  <a:pt x="194" y="1476"/>
                  <a:pt x="172" y="1470"/>
                  <a:pt x="166" y="1483"/>
                </a:cubicBezTo>
                <a:cubicBezTo>
                  <a:pt x="149" y="1518"/>
                  <a:pt x="228" y="1604"/>
                  <a:pt x="240" y="1622"/>
                </a:cubicBezTo>
                <a:cubicBezTo>
                  <a:pt x="256" y="1647"/>
                  <a:pt x="326" y="1643"/>
                  <a:pt x="326" y="1643"/>
                </a:cubicBezTo>
                <a:cubicBezTo>
                  <a:pt x="329" y="1686"/>
                  <a:pt x="327" y="1729"/>
                  <a:pt x="336" y="1771"/>
                </a:cubicBezTo>
                <a:cubicBezTo>
                  <a:pt x="338" y="1782"/>
                  <a:pt x="351" y="1749"/>
                  <a:pt x="347" y="1739"/>
                </a:cubicBezTo>
                <a:cubicBezTo>
                  <a:pt x="341" y="1724"/>
                  <a:pt x="296" y="1711"/>
                  <a:pt x="283" y="1707"/>
                </a:cubicBezTo>
                <a:cubicBezTo>
                  <a:pt x="326" y="1752"/>
                  <a:pt x="294" y="1729"/>
                  <a:pt x="400" y="1729"/>
                </a:cubicBezTo>
                <a:lnTo>
                  <a:pt x="299" y="1702"/>
                </a:lnTo>
                <a:lnTo>
                  <a:pt x="347" y="175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52840" y="5183280"/>
            <a:ext cx="816120" cy="1280880"/>
          </a:xfrm>
          <a:custGeom>
            <a:avLst/>
            <a:gdLst/>
            <a:ahLst/>
            <a:rect l="l" t="t" r="r" b="b"/>
            <a:pathLst>
              <a:path w="514" h="807">
                <a:moveTo>
                  <a:pt x="311" y="330"/>
                </a:moveTo>
                <a:cubicBezTo>
                  <a:pt x="332" y="268"/>
                  <a:pt x="317" y="204"/>
                  <a:pt x="354" y="148"/>
                </a:cubicBezTo>
                <a:cubicBezTo>
                  <a:pt x="341" y="98"/>
                  <a:pt x="332" y="91"/>
                  <a:pt x="290" y="63"/>
                </a:cubicBezTo>
                <a:cubicBezTo>
                  <a:pt x="249" y="0"/>
                  <a:pt x="271" y="14"/>
                  <a:pt x="141" y="42"/>
                </a:cubicBezTo>
                <a:cubicBezTo>
                  <a:pt x="106" y="49"/>
                  <a:pt x="77" y="127"/>
                  <a:pt x="77" y="127"/>
                </a:cubicBezTo>
                <a:cubicBezTo>
                  <a:pt x="80" y="191"/>
                  <a:pt x="85" y="255"/>
                  <a:pt x="87" y="319"/>
                </a:cubicBezTo>
                <a:cubicBezTo>
                  <a:pt x="92" y="451"/>
                  <a:pt x="0" y="626"/>
                  <a:pt x="98" y="714"/>
                </a:cubicBezTo>
                <a:cubicBezTo>
                  <a:pt x="201" y="807"/>
                  <a:pt x="375" y="707"/>
                  <a:pt x="514" y="703"/>
                </a:cubicBezTo>
                <a:cubicBezTo>
                  <a:pt x="500" y="661"/>
                  <a:pt x="487" y="643"/>
                  <a:pt x="450" y="618"/>
                </a:cubicBezTo>
                <a:cubicBezTo>
                  <a:pt x="423" y="578"/>
                  <a:pt x="394" y="537"/>
                  <a:pt x="354" y="511"/>
                </a:cubicBezTo>
                <a:cubicBezTo>
                  <a:pt x="343" y="515"/>
                  <a:pt x="330" y="514"/>
                  <a:pt x="322" y="522"/>
                </a:cubicBezTo>
                <a:cubicBezTo>
                  <a:pt x="253" y="591"/>
                  <a:pt x="337" y="537"/>
                  <a:pt x="290" y="596"/>
                </a:cubicBezTo>
                <a:cubicBezTo>
                  <a:pt x="282" y="606"/>
                  <a:pt x="269" y="611"/>
                  <a:pt x="258" y="618"/>
                </a:cubicBezTo>
                <a:cubicBezTo>
                  <a:pt x="251" y="632"/>
                  <a:pt x="253" y="660"/>
                  <a:pt x="237" y="660"/>
                </a:cubicBezTo>
                <a:cubicBezTo>
                  <a:pt x="223" y="660"/>
                  <a:pt x="241" y="631"/>
                  <a:pt x="247" y="618"/>
                </a:cubicBezTo>
                <a:cubicBezTo>
                  <a:pt x="263" y="581"/>
                  <a:pt x="268" y="587"/>
                  <a:pt x="301" y="575"/>
                </a:cubicBezTo>
                <a:cubicBezTo>
                  <a:pt x="297" y="557"/>
                  <a:pt x="299" y="538"/>
                  <a:pt x="290" y="522"/>
                </a:cubicBezTo>
                <a:cubicBezTo>
                  <a:pt x="260" y="470"/>
                  <a:pt x="238" y="520"/>
                  <a:pt x="215" y="543"/>
                </a:cubicBezTo>
                <a:cubicBezTo>
                  <a:pt x="207" y="551"/>
                  <a:pt x="194" y="550"/>
                  <a:pt x="183" y="554"/>
                </a:cubicBezTo>
                <a:cubicBezTo>
                  <a:pt x="176" y="565"/>
                  <a:pt x="172" y="578"/>
                  <a:pt x="162" y="586"/>
                </a:cubicBezTo>
                <a:cubicBezTo>
                  <a:pt x="153" y="593"/>
                  <a:pt x="136" y="605"/>
                  <a:pt x="130" y="596"/>
                </a:cubicBezTo>
                <a:cubicBezTo>
                  <a:pt x="120" y="580"/>
                  <a:pt x="148" y="539"/>
                  <a:pt x="162" y="532"/>
                </a:cubicBezTo>
                <a:cubicBezTo>
                  <a:pt x="182" y="522"/>
                  <a:pt x="226" y="511"/>
                  <a:pt x="226" y="511"/>
                </a:cubicBezTo>
                <a:cubicBezTo>
                  <a:pt x="212" y="469"/>
                  <a:pt x="203" y="418"/>
                  <a:pt x="173" y="383"/>
                </a:cubicBezTo>
                <a:cubicBezTo>
                  <a:pt x="160" y="368"/>
                  <a:pt x="130" y="340"/>
                  <a:pt x="130" y="340"/>
                </a:cubicBezTo>
                <a:cubicBezTo>
                  <a:pt x="225" y="310"/>
                  <a:pt x="96" y="339"/>
                  <a:pt x="173" y="372"/>
                </a:cubicBezTo>
                <a:cubicBezTo>
                  <a:pt x="193" y="380"/>
                  <a:pt x="216" y="365"/>
                  <a:pt x="237" y="362"/>
                </a:cubicBezTo>
                <a:cubicBezTo>
                  <a:pt x="233" y="341"/>
                  <a:pt x="236" y="317"/>
                  <a:pt x="226" y="298"/>
                </a:cubicBezTo>
                <a:cubicBezTo>
                  <a:pt x="217" y="280"/>
                  <a:pt x="183" y="255"/>
                  <a:pt x="183" y="255"/>
                </a:cubicBezTo>
                <a:cubicBezTo>
                  <a:pt x="180" y="244"/>
                  <a:pt x="173" y="212"/>
                  <a:pt x="173" y="223"/>
                </a:cubicBezTo>
                <a:cubicBezTo>
                  <a:pt x="173" y="238"/>
                  <a:pt x="174" y="254"/>
                  <a:pt x="183" y="266"/>
                </a:cubicBezTo>
                <a:cubicBezTo>
                  <a:pt x="190" y="275"/>
                  <a:pt x="204" y="273"/>
                  <a:pt x="215" y="276"/>
                </a:cubicBezTo>
                <a:cubicBezTo>
                  <a:pt x="241" y="351"/>
                  <a:pt x="216" y="333"/>
                  <a:pt x="269" y="351"/>
                </a:cubicBezTo>
                <a:cubicBezTo>
                  <a:pt x="198" y="419"/>
                  <a:pt x="199" y="328"/>
                  <a:pt x="226" y="511"/>
                </a:cubicBezTo>
                <a:cubicBezTo>
                  <a:pt x="230" y="540"/>
                  <a:pt x="247" y="596"/>
                  <a:pt x="247" y="596"/>
                </a:cubicBezTo>
                <a:cubicBezTo>
                  <a:pt x="284" y="561"/>
                  <a:pt x="260" y="550"/>
                  <a:pt x="311" y="532"/>
                </a:cubicBezTo>
                <a:cubicBezTo>
                  <a:pt x="318" y="510"/>
                  <a:pt x="332" y="457"/>
                  <a:pt x="354" y="479"/>
                </a:cubicBezTo>
                <a:cubicBezTo>
                  <a:pt x="363" y="488"/>
                  <a:pt x="344" y="504"/>
                  <a:pt x="333" y="511"/>
                </a:cubicBezTo>
                <a:cubicBezTo>
                  <a:pt x="314" y="523"/>
                  <a:pt x="290" y="525"/>
                  <a:pt x="269" y="532"/>
                </a:cubicBezTo>
                <a:cubicBezTo>
                  <a:pt x="242" y="541"/>
                  <a:pt x="212" y="543"/>
                  <a:pt x="183" y="543"/>
                </a:cubicBezTo>
                <a:cubicBezTo>
                  <a:pt x="161" y="543"/>
                  <a:pt x="226" y="536"/>
                  <a:pt x="247" y="532"/>
                </a:cubicBezTo>
                <a:cubicBezTo>
                  <a:pt x="181" y="520"/>
                  <a:pt x="112" y="490"/>
                  <a:pt x="45" y="490"/>
                </a:cubicBezTo>
                <a:cubicBezTo>
                  <a:pt x="34" y="490"/>
                  <a:pt x="67" y="496"/>
                  <a:pt x="77" y="500"/>
                </a:cubicBezTo>
                <a:cubicBezTo>
                  <a:pt x="95" y="507"/>
                  <a:pt x="112" y="515"/>
                  <a:pt x="130" y="522"/>
                </a:cubicBezTo>
                <a:cubicBezTo>
                  <a:pt x="181" y="541"/>
                  <a:pt x="237" y="548"/>
                  <a:pt x="290" y="564"/>
                </a:cubicBezTo>
                <a:cubicBezTo>
                  <a:pt x="417" y="556"/>
                  <a:pt x="467" y="589"/>
                  <a:pt x="439" y="479"/>
                </a:cubicBezTo>
                <a:cubicBezTo>
                  <a:pt x="431" y="491"/>
                  <a:pt x="405" y="525"/>
                  <a:pt x="407" y="543"/>
                </a:cubicBezTo>
                <a:cubicBezTo>
                  <a:pt x="410" y="565"/>
                  <a:pt x="445" y="623"/>
                  <a:pt x="429" y="607"/>
                </a:cubicBezTo>
                <a:cubicBezTo>
                  <a:pt x="415" y="593"/>
                  <a:pt x="386" y="564"/>
                  <a:pt x="386" y="564"/>
                </a:cubicBezTo>
                <a:cubicBezTo>
                  <a:pt x="397" y="561"/>
                  <a:pt x="415" y="565"/>
                  <a:pt x="418" y="554"/>
                </a:cubicBezTo>
                <a:cubicBezTo>
                  <a:pt x="437" y="479"/>
                  <a:pt x="417" y="482"/>
                  <a:pt x="375" y="468"/>
                </a:cubicBezTo>
                <a:cubicBezTo>
                  <a:pt x="386" y="465"/>
                  <a:pt x="407" y="458"/>
                  <a:pt x="407" y="4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01920" y="6310440"/>
            <a:ext cx="1541520" cy="223560"/>
          </a:xfrm>
          <a:custGeom>
            <a:avLst/>
            <a:gdLst/>
            <a:ahLst/>
            <a:rect l="l" t="t" r="r" b="b"/>
            <a:pathLst>
              <a:path w="971" h="141">
                <a:moveTo>
                  <a:pt x="0" y="36"/>
                </a:moveTo>
                <a:cubicBezTo>
                  <a:pt x="1" y="36"/>
                  <a:pt x="94" y="57"/>
                  <a:pt x="117" y="68"/>
                </a:cubicBezTo>
                <a:cubicBezTo>
                  <a:pt x="149" y="84"/>
                  <a:pt x="174" y="112"/>
                  <a:pt x="203" y="132"/>
                </a:cubicBezTo>
                <a:cubicBezTo>
                  <a:pt x="264" y="70"/>
                  <a:pt x="232" y="70"/>
                  <a:pt x="288" y="89"/>
                </a:cubicBezTo>
                <a:cubicBezTo>
                  <a:pt x="349" y="73"/>
                  <a:pt x="405" y="93"/>
                  <a:pt x="469" y="100"/>
                </a:cubicBezTo>
                <a:cubicBezTo>
                  <a:pt x="476" y="111"/>
                  <a:pt x="479" y="127"/>
                  <a:pt x="491" y="132"/>
                </a:cubicBezTo>
                <a:cubicBezTo>
                  <a:pt x="515" y="141"/>
                  <a:pt x="545" y="95"/>
                  <a:pt x="555" y="89"/>
                </a:cubicBezTo>
                <a:cubicBezTo>
                  <a:pt x="564" y="83"/>
                  <a:pt x="576" y="82"/>
                  <a:pt x="587" y="78"/>
                </a:cubicBezTo>
                <a:cubicBezTo>
                  <a:pt x="614" y="119"/>
                  <a:pt x="611" y="136"/>
                  <a:pt x="683" y="100"/>
                </a:cubicBezTo>
                <a:cubicBezTo>
                  <a:pt x="693" y="95"/>
                  <a:pt x="684" y="75"/>
                  <a:pt x="693" y="68"/>
                </a:cubicBezTo>
                <a:cubicBezTo>
                  <a:pt x="711" y="55"/>
                  <a:pt x="757" y="46"/>
                  <a:pt x="757" y="46"/>
                </a:cubicBezTo>
                <a:cubicBezTo>
                  <a:pt x="787" y="17"/>
                  <a:pt x="813" y="14"/>
                  <a:pt x="853" y="4"/>
                </a:cubicBezTo>
                <a:cubicBezTo>
                  <a:pt x="865" y="5"/>
                  <a:pt x="971" y="0"/>
                  <a:pt x="971" y="46"/>
                </a:cubicBezTo>
                <a:lnTo>
                  <a:pt x="896" y="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61120" y="5915160"/>
            <a:ext cx="1522440" cy="809640"/>
          </a:xfrm>
          <a:custGeom>
            <a:avLst/>
            <a:gdLst/>
            <a:ahLst/>
            <a:rect l="l" t="t" r="r" b="b"/>
            <a:pathLst>
              <a:path w="959" h="510">
                <a:moveTo>
                  <a:pt x="378" y="93"/>
                </a:moveTo>
                <a:cubicBezTo>
                  <a:pt x="385" y="86"/>
                  <a:pt x="390" y="76"/>
                  <a:pt x="399" y="71"/>
                </a:cubicBezTo>
                <a:cubicBezTo>
                  <a:pt x="419" y="61"/>
                  <a:pt x="463" y="50"/>
                  <a:pt x="463" y="50"/>
                </a:cubicBezTo>
                <a:cubicBezTo>
                  <a:pt x="509" y="60"/>
                  <a:pt x="545" y="89"/>
                  <a:pt x="591" y="93"/>
                </a:cubicBezTo>
                <a:cubicBezTo>
                  <a:pt x="659" y="99"/>
                  <a:pt x="726" y="100"/>
                  <a:pt x="794" y="103"/>
                </a:cubicBezTo>
                <a:cubicBezTo>
                  <a:pt x="805" y="107"/>
                  <a:pt x="823" y="103"/>
                  <a:pt x="826" y="114"/>
                </a:cubicBezTo>
                <a:cubicBezTo>
                  <a:pt x="829" y="127"/>
                  <a:pt x="817" y="144"/>
                  <a:pt x="804" y="146"/>
                </a:cubicBezTo>
                <a:cubicBezTo>
                  <a:pt x="769" y="152"/>
                  <a:pt x="733" y="139"/>
                  <a:pt x="698" y="135"/>
                </a:cubicBezTo>
                <a:cubicBezTo>
                  <a:pt x="712" y="132"/>
                  <a:pt x="734" y="138"/>
                  <a:pt x="740" y="125"/>
                </a:cubicBezTo>
                <a:cubicBezTo>
                  <a:pt x="745" y="115"/>
                  <a:pt x="697" y="114"/>
                  <a:pt x="708" y="114"/>
                </a:cubicBezTo>
                <a:cubicBezTo>
                  <a:pt x="730" y="114"/>
                  <a:pt x="751" y="121"/>
                  <a:pt x="772" y="125"/>
                </a:cubicBezTo>
                <a:cubicBezTo>
                  <a:pt x="708" y="167"/>
                  <a:pt x="668" y="155"/>
                  <a:pt x="591" y="146"/>
                </a:cubicBezTo>
                <a:cubicBezTo>
                  <a:pt x="640" y="97"/>
                  <a:pt x="676" y="108"/>
                  <a:pt x="740" y="93"/>
                </a:cubicBezTo>
                <a:cubicBezTo>
                  <a:pt x="758" y="96"/>
                  <a:pt x="777" y="96"/>
                  <a:pt x="794" y="103"/>
                </a:cubicBezTo>
                <a:cubicBezTo>
                  <a:pt x="818" y="113"/>
                  <a:pt x="824" y="138"/>
                  <a:pt x="804" y="157"/>
                </a:cubicBezTo>
                <a:cubicBezTo>
                  <a:pt x="783" y="177"/>
                  <a:pt x="748" y="172"/>
                  <a:pt x="719" y="178"/>
                </a:cubicBezTo>
                <a:cubicBezTo>
                  <a:pt x="676" y="174"/>
                  <a:pt x="630" y="185"/>
                  <a:pt x="591" y="167"/>
                </a:cubicBezTo>
                <a:cubicBezTo>
                  <a:pt x="578" y="161"/>
                  <a:pt x="593" y="136"/>
                  <a:pt x="602" y="125"/>
                </a:cubicBezTo>
                <a:cubicBezTo>
                  <a:pt x="609" y="116"/>
                  <a:pt x="623" y="118"/>
                  <a:pt x="634" y="114"/>
                </a:cubicBezTo>
                <a:cubicBezTo>
                  <a:pt x="666" y="121"/>
                  <a:pt x="701" y="120"/>
                  <a:pt x="730" y="135"/>
                </a:cubicBezTo>
                <a:cubicBezTo>
                  <a:pt x="740" y="140"/>
                  <a:pt x="745" y="157"/>
                  <a:pt x="740" y="167"/>
                </a:cubicBezTo>
                <a:cubicBezTo>
                  <a:pt x="735" y="177"/>
                  <a:pt x="718" y="173"/>
                  <a:pt x="708" y="178"/>
                </a:cubicBezTo>
                <a:cubicBezTo>
                  <a:pt x="697" y="184"/>
                  <a:pt x="687" y="192"/>
                  <a:pt x="676" y="199"/>
                </a:cubicBezTo>
                <a:cubicBezTo>
                  <a:pt x="633" y="196"/>
                  <a:pt x="590" y="198"/>
                  <a:pt x="548" y="189"/>
                </a:cubicBezTo>
                <a:cubicBezTo>
                  <a:pt x="538" y="187"/>
                  <a:pt x="525" y="177"/>
                  <a:pt x="527" y="167"/>
                </a:cubicBezTo>
                <a:cubicBezTo>
                  <a:pt x="530" y="152"/>
                  <a:pt x="548" y="146"/>
                  <a:pt x="559" y="135"/>
                </a:cubicBezTo>
                <a:cubicBezTo>
                  <a:pt x="612" y="142"/>
                  <a:pt x="670" y="136"/>
                  <a:pt x="719" y="157"/>
                </a:cubicBezTo>
                <a:cubicBezTo>
                  <a:pt x="732" y="163"/>
                  <a:pt x="722" y="197"/>
                  <a:pt x="708" y="199"/>
                </a:cubicBezTo>
                <a:cubicBezTo>
                  <a:pt x="645" y="209"/>
                  <a:pt x="580" y="192"/>
                  <a:pt x="516" y="189"/>
                </a:cubicBezTo>
                <a:cubicBezTo>
                  <a:pt x="501" y="140"/>
                  <a:pt x="497" y="131"/>
                  <a:pt x="548" y="114"/>
                </a:cubicBezTo>
                <a:cubicBezTo>
                  <a:pt x="569" y="118"/>
                  <a:pt x="597" y="110"/>
                  <a:pt x="612" y="125"/>
                </a:cubicBezTo>
                <a:cubicBezTo>
                  <a:pt x="622" y="135"/>
                  <a:pt x="616" y="164"/>
                  <a:pt x="602" y="167"/>
                </a:cubicBezTo>
                <a:cubicBezTo>
                  <a:pt x="553" y="177"/>
                  <a:pt x="502" y="160"/>
                  <a:pt x="452" y="157"/>
                </a:cubicBezTo>
                <a:cubicBezTo>
                  <a:pt x="420" y="54"/>
                  <a:pt x="454" y="82"/>
                  <a:pt x="548" y="93"/>
                </a:cubicBezTo>
                <a:cubicBezTo>
                  <a:pt x="545" y="111"/>
                  <a:pt x="555" y="140"/>
                  <a:pt x="538" y="146"/>
                </a:cubicBezTo>
                <a:cubicBezTo>
                  <a:pt x="424" y="183"/>
                  <a:pt x="427" y="159"/>
                  <a:pt x="410" y="103"/>
                </a:cubicBezTo>
                <a:cubicBezTo>
                  <a:pt x="406" y="114"/>
                  <a:pt x="406" y="126"/>
                  <a:pt x="399" y="135"/>
                </a:cubicBezTo>
                <a:cubicBezTo>
                  <a:pt x="371" y="171"/>
                  <a:pt x="329" y="150"/>
                  <a:pt x="420" y="167"/>
                </a:cubicBezTo>
                <a:cubicBezTo>
                  <a:pt x="473" y="204"/>
                  <a:pt x="530" y="221"/>
                  <a:pt x="591" y="242"/>
                </a:cubicBezTo>
                <a:cubicBezTo>
                  <a:pt x="573" y="246"/>
                  <a:pt x="538" y="253"/>
                  <a:pt x="538" y="253"/>
                </a:cubicBezTo>
                <a:cubicBezTo>
                  <a:pt x="599" y="228"/>
                  <a:pt x="723" y="212"/>
                  <a:pt x="538" y="231"/>
                </a:cubicBezTo>
                <a:cubicBezTo>
                  <a:pt x="556" y="235"/>
                  <a:pt x="591" y="224"/>
                  <a:pt x="591" y="242"/>
                </a:cubicBezTo>
                <a:cubicBezTo>
                  <a:pt x="591" y="260"/>
                  <a:pt x="538" y="235"/>
                  <a:pt x="538" y="253"/>
                </a:cubicBezTo>
                <a:cubicBezTo>
                  <a:pt x="538" y="271"/>
                  <a:pt x="573" y="260"/>
                  <a:pt x="591" y="263"/>
                </a:cubicBezTo>
                <a:cubicBezTo>
                  <a:pt x="616" y="256"/>
                  <a:pt x="646" y="259"/>
                  <a:pt x="666" y="242"/>
                </a:cubicBezTo>
                <a:cubicBezTo>
                  <a:pt x="675" y="235"/>
                  <a:pt x="664" y="217"/>
                  <a:pt x="655" y="210"/>
                </a:cubicBezTo>
                <a:cubicBezTo>
                  <a:pt x="643" y="201"/>
                  <a:pt x="626" y="203"/>
                  <a:pt x="612" y="199"/>
                </a:cubicBezTo>
                <a:cubicBezTo>
                  <a:pt x="568" y="205"/>
                  <a:pt x="468" y="196"/>
                  <a:pt x="538" y="263"/>
                </a:cubicBezTo>
                <a:cubicBezTo>
                  <a:pt x="566" y="260"/>
                  <a:pt x="604" y="275"/>
                  <a:pt x="623" y="253"/>
                </a:cubicBezTo>
                <a:cubicBezTo>
                  <a:pt x="640" y="234"/>
                  <a:pt x="628" y="198"/>
                  <a:pt x="612" y="178"/>
                </a:cubicBezTo>
                <a:cubicBezTo>
                  <a:pt x="604" y="168"/>
                  <a:pt x="591" y="192"/>
                  <a:pt x="580" y="199"/>
                </a:cubicBezTo>
                <a:cubicBezTo>
                  <a:pt x="612" y="231"/>
                  <a:pt x="630" y="261"/>
                  <a:pt x="698" y="210"/>
                </a:cubicBezTo>
                <a:cubicBezTo>
                  <a:pt x="712" y="199"/>
                  <a:pt x="691" y="175"/>
                  <a:pt x="687" y="157"/>
                </a:cubicBezTo>
                <a:cubicBezTo>
                  <a:pt x="673" y="160"/>
                  <a:pt x="648" y="153"/>
                  <a:pt x="644" y="167"/>
                </a:cubicBezTo>
                <a:cubicBezTo>
                  <a:pt x="618" y="258"/>
                  <a:pt x="670" y="230"/>
                  <a:pt x="698" y="221"/>
                </a:cubicBezTo>
                <a:cubicBezTo>
                  <a:pt x="692" y="226"/>
                  <a:pt x="639" y="265"/>
                  <a:pt x="708" y="253"/>
                </a:cubicBezTo>
                <a:cubicBezTo>
                  <a:pt x="721" y="251"/>
                  <a:pt x="729" y="238"/>
                  <a:pt x="740" y="231"/>
                </a:cubicBezTo>
                <a:cubicBezTo>
                  <a:pt x="737" y="220"/>
                  <a:pt x="740" y="204"/>
                  <a:pt x="730" y="199"/>
                </a:cubicBezTo>
                <a:cubicBezTo>
                  <a:pt x="674" y="171"/>
                  <a:pt x="708" y="241"/>
                  <a:pt x="708" y="242"/>
                </a:cubicBezTo>
                <a:cubicBezTo>
                  <a:pt x="722" y="238"/>
                  <a:pt x="743" y="244"/>
                  <a:pt x="751" y="231"/>
                </a:cubicBezTo>
                <a:cubicBezTo>
                  <a:pt x="758" y="219"/>
                  <a:pt x="740" y="175"/>
                  <a:pt x="740" y="189"/>
                </a:cubicBezTo>
                <a:cubicBezTo>
                  <a:pt x="740" y="207"/>
                  <a:pt x="747" y="224"/>
                  <a:pt x="751" y="242"/>
                </a:cubicBezTo>
                <a:cubicBezTo>
                  <a:pt x="762" y="235"/>
                  <a:pt x="780" y="233"/>
                  <a:pt x="783" y="221"/>
                </a:cubicBezTo>
                <a:cubicBezTo>
                  <a:pt x="788" y="196"/>
                  <a:pt x="783" y="169"/>
                  <a:pt x="772" y="146"/>
                </a:cubicBezTo>
                <a:cubicBezTo>
                  <a:pt x="767" y="136"/>
                  <a:pt x="765" y="167"/>
                  <a:pt x="762" y="178"/>
                </a:cubicBezTo>
                <a:cubicBezTo>
                  <a:pt x="773" y="182"/>
                  <a:pt x="787" y="180"/>
                  <a:pt x="794" y="189"/>
                </a:cubicBezTo>
                <a:cubicBezTo>
                  <a:pt x="823" y="225"/>
                  <a:pt x="782" y="252"/>
                  <a:pt x="826" y="210"/>
                </a:cubicBezTo>
                <a:cubicBezTo>
                  <a:pt x="822" y="199"/>
                  <a:pt x="826" y="178"/>
                  <a:pt x="815" y="178"/>
                </a:cubicBezTo>
                <a:cubicBezTo>
                  <a:pt x="804" y="178"/>
                  <a:pt x="802" y="199"/>
                  <a:pt x="804" y="210"/>
                </a:cubicBezTo>
                <a:cubicBezTo>
                  <a:pt x="806" y="220"/>
                  <a:pt x="819" y="224"/>
                  <a:pt x="826" y="231"/>
                </a:cubicBezTo>
                <a:cubicBezTo>
                  <a:pt x="854" y="113"/>
                  <a:pt x="828" y="226"/>
                  <a:pt x="826" y="221"/>
                </a:cubicBezTo>
                <a:cubicBezTo>
                  <a:pt x="815" y="198"/>
                  <a:pt x="819" y="171"/>
                  <a:pt x="815" y="146"/>
                </a:cubicBezTo>
                <a:cubicBezTo>
                  <a:pt x="804" y="153"/>
                  <a:pt x="786" y="155"/>
                  <a:pt x="783" y="167"/>
                </a:cubicBezTo>
                <a:cubicBezTo>
                  <a:pt x="779" y="188"/>
                  <a:pt x="847" y="227"/>
                  <a:pt x="772" y="178"/>
                </a:cubicBezTo>
                <a:cubicBezTo>
                  <a:pt x="758" y="182"/>
                  <a:pt x="742" y="181"/>
                  <a:pt x="730" y="189"/>
                </a:cubicBezTo>
                <a:cubicBezTo>
                  <a:pt x="690" y="216"/>
                  <a:pt x="725" y="247"/>
                  <a:pt x="687" y="189"/>
                </a:cubicBezTo>
                <a:cubicBezTo>
                  <a:pt x="670" y="254"/>
                  <a:pt x="675" y="259"/>
                  <a:pt x="740" y="242"/>
                </a:cubicBezTo>
                <a:cubicBezTo>
                  <a:pt x="744" y="231"/>
                  <a:pt x="757" y="220"/>
                  <a:pt x="751" y="210"/>
                </a:cubicBezTo>
                <a:cubicBezTo>
                  <a:pt x="729" y="174"/>
                  <a:pt x="701" y="191"/>
                  <a:pt x="676" y="199"/>
                </a:cubicBezTo>
                <a:cubicBezTo>
                  <a:pt x="653" y="223"/>
                  <a:pt x="626" y="239"/>
                  <a:pt x="666" y="285"/>
                </a:cubicBezTo>
                <a:cubicBezTo>
                  <a:pt x="678" y="299"/>
                  <a:pt x="701" y="292"/>
                  <a:pt x="719" y="295"/>
                </a:cubicBezTo>
                <a:cubicBezTo>
                  <a:pt x="730" y="292"/>
                  <a:pt x="741" y="280"/>
                  <a:pt x="751" y="285"/>
                </a:cubicBezTo>
                <a:cubicBezTo>
                  <a:pt x="761" y="290"/>
                  <a:pt x="752" y="322"/>
                  <a:pt x="762" y="317"/>
                </a:cubicBezTo>
                <a:cubicBezTo>
                  <a:pt x="775" y="310"/>
                  <a:pt x="782" y="284"/>
                  <a:pt x="772" y="274"/>
                </a:cubicBezTo>
                <a:cubicBezTo>
                  <a:pt x="762" y="264"/>
                  <a:pt x="744" y="281"/>
                  <a:pt x="730" y="285"/>
                </a:cubicBezTo>
                <a:cubicBezTo>
                  <a:pt x="737" y="278"/>
                  <a:pt x="751" y="263"/>
                  <a:pt x="751" y="263"/>
                </a:cubicBezTo>
                <a:cubicBezTo>
                  <a:pt x="776" y="260"/>
                  <a:pt x="803" y="264"/>
                  <a:pt x="826" y="253"/>
                </a:cubicBezTo>
                <a:cubicBezTo>
                  <a:pt x="836" y="248"/>
                  <a:pt x="805" y="240"/>
                  <a:pt x="794" y="242"/>
                </a:cubicBezTo>
                <a:cubicBezTo>
                  <a:pt x="784" y="244"/>
                  <a:pt x="765" y="255"/>
                  <a:pt x="772" y="263"/>
                </a:cubicBezTo>
                <a:cubicBezTo>
                  <a:pt x="780" y="271"/>
                  <a:pt x="815" y="253"/>
                  <a:pt x="804" y="253"/>
                </a:cubicBezTo>
                <a:cubicBezTo>
                  <a:pt x="705" y="253"/>
                  <a:pt x="605" y="260"/>
                  <a:pt x="506" y="263"/>
                </a:cubicBezTo>
                <a:cubicBezTo>
                  <a:pt x="495" y="267"/>
                  <a:pt x="485" y="271"/>
                  <a:pt x="474" y="274"/>
                </a:cubicBezTo>
                <a:cubicBezTo>
                  <a:pt x="453" y="279"/>
                  <a:pt x="431" y="282"/>
                  <a:pt x="410" y="285"/>
                </a:cubicBezTo>
                <a:cubicBezTo>
                  <a:pt x="320" y="297"/>
                  <a:pt x="184" y="303"/>
                  <a:pt x="474" y="285"/>
                </a:cubicBezTo>
                <a:cubicBezTo>
                  <a:pt x="485" y="281"/>
                  <a:pt x="510" y="285"/>
                  <a:pt x="506" y="274"/>
                </a:cubicBezTo>
                <a:cubicBezTo>
                  <a:pt x="503" y="265"/>
                  <a:pt x="443" y="246"/>
                  <a:pt x="431" y="242"/>
                </a:cubicBezTo>
                <a:cubicBezTo>
                  <a:pt x="567" y="173"/>
                  <a:pt x="548" y="201"/>
                  <a:pt x="346" y="189"/>
                </a:cubicBezTo>
                <a:cubicBezTo>
                  <a:pt x="401" y="174"/>
                  <a:pt x="626" y="186"/>
                  <a:pt x="474" y="157"/>
                </a:cubicBezTo>
                <a:cubicBezTo>
                  <a:pt x="470" y="168"/>
                  <a:pt x="471" y="181"/>
                  <a:pt x="463" y="189"/>
                </a:cubicBezTo>
                <a:cubicBezTo>
                  <a:pt x="450" y="202"/>
                  <a:pt x="352" y="217"/>
                  <a:pt x="335" y="221"/>
                </a:cubicBezTo>
                <a:cubicBezTo>
                  <a:pt x="399" y="241"/>
                  <a:pt x="483" y="217"/>
                  <a:pt x="548" y="210"/>
                </a:cubicBezTo>
                <a:cubicBezTo>
                  <a:pt x="670" y="235"/>
                  <a:pt x="556" y="210"/>
                  <a:pt x="506" y="210"/>
                </a:cubicBezTo>
                <a:cubicBezTo>
                  <a:pt x="463" y="210"/>
                  <a:pt x="421" y="231"/>
                  <a:pt x="378" y="231"/>
                </a:cubicBezTo>
                <a:cubicBezTo>
                  <a:pt x="364" y="231"/>
                  <a:pt x="406" y="225"/>
                  <a:pt x="420" y="221"/>
                </a:cubicBezTo>
                <a:cubicBezTo>
                  <a:pt x="431" y="218"/>
                  <a:pt x="441" y="213"/>
                  <a:pt x="452" y="210"/>
                </a:cubicBezTo>
                <a:cubicBezTo>
                  <a:pt x="470" y="205"/>
                  <a:pt x="524" y="198"/>
                  <a:pt x="506" y="199"/>
                </a:cubicBezTo>
                <a:cubicBezTo>
                  <a:pt x="279" y="212"/>
                  <a:pt x="250" y="217"/>
                  <a:pt x="420" y="199"/>
                </a:cubicBezTo>
                <a:cubicBezTo>
                  <a:pt x="438" y="203"/>
                  <a:pt x="474" y="192"/>
                  <a:pt x="474" y="210"/>
                </a:cubicBezTo>
                <a:cubicBezTo>
                  <a:pt x="474" y="228"/>
                  <a:pt x="438" y="217"/>
                  <a:pt x="420" y="221"/>
                </a:cubicBezTo>
                <a:cubicBezTo>
                  <a:pt x="406" y="224"/>
                  <a:pt x="392" y="231"/>
                  <a:pt x="378" y="231"/>
                </a:cubicBezTo>
                <a:cubicBezTo>
                  <a:pt x="367" y="231"/>
                  <a:pt x="399" y="224"/>
                  <a:pt x="410" y="221"/>
                </a:cubicBezTo>
                <a:cubicBezTo>
                  <a:pt x="428" y="224"/>
                  <a:pt x="481" y="228"/>
                  <a:pt x="463" y="231"/>
                </a:cubicBezTo>
                <a:cubicBezTo>
                  <a:pt x="411" y="241"/>
                  <a:pt x="356" y="238"/>
                  <a:pt x="303" y="242"/>
                </a:cubicBezTo>
                <a:cubicBezTo>
                  <a:pt x="0" y="265"/>
                  <a:pt x="295" y="246"/>
                  <a:pt x="356" y="242"/>
                </a:cubicBezTo>
                <a:cubicBezTo>
                  <a:pt x="269" y="272"/>
                  <a:pt x="385" y="236"/>
                  <a:pt x="399" y="231"/>
                </a:cubicBezTo>
                <a:cubicBezTo>
                  <a:pt x="388" y="224"/>
                  <a:pt x="367" y="197"/>
                  <a:pt x="367" y="210"/>
                </a:cubicBezTo>
                <a:cubicBezTo>
                  <a:pt x="367" y="225"/>
                  <a:pt x="384" y="242"/>
                  <a:pt x="399" y="242"/>
                </a:cubicBezTo>
                <a:cubicBezTo>
                  <a:pt x="412" y="242"/>
                  <a:pt x="413" y="221"/>
                  <a:pt x="420" y="210"/>
                </a:cubicBezTo>
                <a:cubicBezTo>
                  <a:pt x="386" y="187"/>
                  <a:pt x="353" y="156"/>
                  <a:pt x="303" y="199"/>
                </a:cubicBezTo>
                <a:cubicBezTo>
                  <a:pt x="300" y="202"/>
                  <a:pt x="332" y="324"/>
                  <a:pt x="303" y="210"/>
                </a:cubicBezTo>
                <a:cubicBezTo>
                  <a:pt x="275" y="253"/>
                  <a:pt x="266" y="300"/>
                  <a:pt x="250" y="349"/>
                </a:cubicBezTo>
                <a:cubicBezTo>
                  <a:pt x="246" y="360"/>
                  <a:pt x="239" y="381"/>
                  <a:pt x="239" y="381"/>
                </a:cubicBezTo>
                <a:cubicBezTo>
                  <a:pt x="191" y="369"/>
                  <a:pt x="169" y="365"/>
                  <a:pt x="154" y="317"/>
                </a:cubicBezTo>
                <a:cubicBezTo>
                  <a:pt x="169" y="252"/>
                  <a:pt x="150" y="279"/>
                  <a:pt x="228" y="253"/>
                </a:cubicBezTo>
                <a:cubicBezTo>
                  <a:pt x="239" y="249"/>
                  <a:pt x="260" y="242"/>
                  <a:pt x="260" y="242"/>
                </a:cubicBezTo>
                <a:cubicBezTo>
                  <a:pt x="274" y="246"/>
                  <a:pt x="311" y="241"/>
                  <a:pt x="303" y="253"/>
                </a:cubicBezTo>
                <a:cubicBezTo>
                  <a:pt x="296" y="264"/>
                  <a:pt x="202" y="282"/>
                  <a:pt x="186" y="285"/>
                </a:cubicBezTo>
                <a:cubicBezTo>
                  <a:pt x="197" y="288"/>
                  <a:pt x="207" y="295"/>
                  <a:pt x="218" y="295"/>
                </a:cubicBezTo>
                <a:cubicBezTo>
                  <a:pt x="236" y="295"/>
                  <a:pt x="254" y="289"/>
                  <a:pt x="271" y="285"/>
                </a:cubicBezTo>
                <a:cubicBezTo>
                  <a:pt x="282" y="282"/>
                  <a:pt x="314" y="274"/>
                  <a:pt x="303" y="274"/>
                </a:cubicBezTo>
                <a:cubicBezTo>
                  <a:pt x="257" y="274"/>
                  <a:pt x="210" y="281"/>
                  <a:pt x="164" y="285"/>
                </a:cubicBezTo>
                <a:cubicBezTo>
                  <a:pt x="281" y="245"/>
                  <a:pt x="155" y="285"/>
                  <a:pt x="452" y="263"/>
                </a:cubicBezTo>
                <a:cubicBezTo>
                  <a:pt x="463" y="262"/>
                  <a:pt x="495" y="253"/>
                  <a:pt x="484" y="253"/>
                </a:cubicBezTo>
                <a:cubicBezTo>
                  <a:pt x="431" y="253"/>
                  <a:pt x="377" y="260"/>
                  <a:pt x="324" y="263"/>
                </a:cubicBezTo>
                <a:cubicBezTo>
                  <a:pt x="241" y="291"/>
                  <a:pt x="339" y="252"/>
                  <a:pt x="356" y="285"/>
                </a:cubicBezTo>
                <a:cubicBezTo>
                  <a:pt x="364" y="301"/>
                  <a:pt x="321" y="292"/>
                  <a:pt x="303" y="295"/>
                </a:cubicBezTo>
                <a:cubicBezTo>
                  <a:pt x="307" y="309"/>
                  <a:pt x="322" y="326"/>
                  <a:pt x="314" y="338"/>
                </a:cubicBezTo>
                <a:cubicBezTo>
                  <a:pt x="308" y="347"/>
                  <a:pt x="293" y="323"/>
                  <a:pt x="282" y="327"/>
                </a:cubicBezTo>
                <a:cubicBezTo>
                  <a:pt x="270" y="332"/>
                  <a:pt x="247" y="357"/>
                  <a:pt x="260" y="359"/>
                </a:cubicBezTo>
                <a:cubicBezTo>
                  <a:pt x="309" y="367"/>
                  <a:pt x="360" y="352"/>
                  <a:pt x="410" y="349"/>
                </a:cubicBezTo>
                <a:cubicBezTo>
                  <a:pt x="406" y="335"/>
                  <a:pt x="411" y="315"/>
                  <a:pt x="399" y="306"/>
                </a:cubicBezTo>
                <a:cubicBezTo>
                  <a:pt x="390" y="299"/>
                  <a:pt x="361" y="308"/>
                  <a:pt x="367" y="317"/>
                </a:cubicBezTo>
                <a:cubicBezTo>
                  <a:pt x="377" y="333"/>
                  <a:pt x="402" y="331"/>
                  <a:pt x="420" y="338"/>
                </a:cubicBezTo>
                <a:cubicBezTo>
                  <a:pt x="438" y="334"/>
                  <a:pt x="463" y="342"/>
                  <a:pt x="474" y="327"/>
                </a:cubicBezTo>
                <a:cubicBezTo>
                  <a:pt x="482" y="317"/>
                  <a:pt x="464" y="299"/>
                  <a:pt x="452" y="295"/>
                </a:cubicBezTo>
                <a:cubicBezTo>
                  <a:pt x="418" y="284"/>
                  <a:pt x="381" y="288"/>
                  <a:pt x="346" y="285"/>
                </a:cubicBezTo>
                <a:cubicBezTo>
                  <a:pt x="409" y="305"/>
                  <a:pt x="419" y="312"/>
                  <a:pt x="516" y="285"/>
                </a:cubicBezTo>
                <a:cubicBezTo>
                  <a:pt x="527" y="282"/>
                  <a:pt x="538" y="253"/>
                  <a:pt x="527" y="253"/>
                </a:cubicBezTo>
                <a:cubicBezTo>
                  <a:pt x="514" y="253"/>
                  <a:pt x="494" y="280"/>
                  <a:pt x="506" y="285"/>
                </a:cubicBezTo>
                <a:cubicBezTo>
                  <a:pt x="529" y="294"/>
                  <a:pt x="555" y="278"/>
                  <a:pt x="580" y="274"/>
                </a:cubicBezTo>
                <a:cubicBezTo>
                  <a:pt x="517" y="257"/>
                  <a:pt x="493" y="246"/>
                  <a:pt x="410" y="274"/>
                </a:cubicBezTo>
                <a:cubicBezTo>
                  <a:pt x="398" y="278"/>
                  <a:pt x="431" y="289"/>
                  <a:pt x="442" y="295"/>
                </a:cubicBezTo>
                <a:cubicBezTo>
                  <a:pt x="476" y="312"/>
                  <a:pt x="526" y="313"/>
                  <a:pt x="559" y="317"/>
                </a:cubicBezTo>
                <a:cubicBezTo>
                  <a:pt x="658" y="348"/>
                  <a:pt x="531" y="303"/>
                  <a:pt x="612" y="349"/>
                </a:cubicBezTo>
                <a:cubicBezTo>
                  <a:pt x="629" y="359"/>
                  <a:pt x="648" y="363"/>
                  <a:pt x="666" y="370"/>
                </a:cubicBezTo>
                <a:cubicBezTo>
                  <a:pt x="673" y="356"/>
                  <a:pt x="700" y="336"/>
                  <a:pt x="687" y="327"/>
                </a:cubicBezTo>
                <a:cubicBezTo>
                  <a:pt x="654" y="305"/>
                  <a:pt x="570" y="306"/>
                  <a:pt x="570" y="306"/>
                </a:cubicBezTo>
                <a:cubicBezTo>
                  <a:pt x="642" y="298"/>
                  <a:pt x="699" y="305"/>
                  <a:pt x="740" y="242"/>
                </a:cubicBezTo>
                <a:cubicBezTo>
                  <a:pt x="815" y="268"/>
                  <a:pt x="747" y="240"/>
                  <a:pt x="676" y="263"/>
                </a:cubicBezTo>
                <a:cubicBezTo>
                  <a:pt x="665" y="267"/>
                  <a:pt x="697" y="271"/>
                  <a:pt x="708" y="274"/>
                </a:cubicBezTo>
                <a:cubicBezTo>
                  <a:pt x="722" y="278"/>
                  <a:pt x="737" y="281"/>
                  <a:pt x="751" y="285"/>
                </a:cubicBezTo>
                <a:cubicBezTo>
                  <a:pt x="730" y="292"/>
                  <a:pt x="703" y="290"/>
                  <a:pt x="687" y="306"/>
                </a:cubicBezTo>
                <a:cubicBezTo>
                  <a:pt x="679" y="314"/>
                  <a:pt x="708" y="317"/>
                  <a:pt x="719" y="317"/>
                </a:cubicBezTo>
                <a:cubicBezTo>
                  <a:pt x="730" y="317"/>
                  <a:pt x="740" y="310"/>
                  <a:pt x="751" y="306"/>
                </a:cubicBezTo>
                <a:cubicBezTo>
                  <a:pt x="796" y="237"/>
                  <a:pt x="790" y="253"/>
                  <a:pt x="890" y="263"/>
                </a:cubicBezTo>
                <a:cubicBezTo>
                  <a:pt x="833" y="277"/>
                  <a:pt x="813" y="295"/>
                  <a:pt x="751" y="306"/>
                </a:cubicBezTo>
                <a:cubicBezTo>
                  <a:pt x="737" y="313"/>
                  <a:pt x="723" y="323"/>
                  <a:pt x="708" y="327"/>
                </a:cubicBezTo>
                <a:cubicBezTo>
                  <a:pt x="666" y="338"/>
                  <a:pt x="580" y="349"/>
                  <a:pt x="580" y="349"/>
                </a:cubicBezTo>
                <a:cubicBezTo>
                  <a:pt x="508" y="324"/>
                  <a:pt x="388" y="362"/>
                  <a:pt x="314" y="370"/>
                </a:cubicBezTo>
                <a:cubicBezTo>
                  <a:pt x="333" y="430"/>
                  <a:pt x="330" y="431"/>
                  <a:pt x="388" y="402"/>
                </a:cubicBezTo>
                <a:cubicBezTo>
                  <a:pt x="477" y="425"/>
                  <a:pt x="553" y="454"/>
                  <a:pt x="644" y="466"/>
                </a:cubicBezTo>
                <a:cubicBezTo>
                  <a:pt x="712" y="449"/>
                  <a:pt x="766" y="432"/>
                  <a:pt x="836" y="423"/>
                </a:cubicBezTo>
                <a:cubicBezTo>
                  <a:pt x="840" y="405"/>
                  <a:pt x="834" y="383"/>
                  <a:pt x="847" y="370"/>
                </a:cubicBezTo>
                <a:cubicBezTo>
                  <a:pt x="860" y="357"/>
                  <a:pt x="887" y="372"/>
                  <a:pt x="900" y="359"/>
                </a:cubicBezTo>
                <a:cubicBezTo>
                  <a:pt x="915" y="344"/>
                  <a:pt x="873" y="310"/>
                  <a:pt x="868" y="306"/>
                </a:cubicBezTo>
                <a:cubicBezTo>
                  <a:pt x="851" y="253"/>
                  <a:pt x="829" y="190"/>
                  <a:pt x="847" y="135"/>
                </a:cubicBezTo>
                <a:cubicBezTo>
                  <a:pt x="853" y="118"/>
                  <a:pt x="882" y="142"/>
                  <a:pt x="900" y="146"/>
                </a:cubicBezTo>
                <a:cubicBezTo>
                  <a:pt x="959" y="202"/>
                  <a:pt x="948" y="181"/>
                  <a:pt x="911" y="338"/>
                </a:cubicBezTo>
                <a:cubicBezTo>
                  <a:pt x="908" y="349"/>
                  <a:pt x="889" y="344"/>
                  <a:pt x="879" y="349"/>
                </a:cubicBezTo>
                <a:cubicBezTo>
                  <a:pt x="868" y="355"/>
                  <a:pt x="858" y="363"/>
                  <a:pt x="847" y="370"/>
                </a:cubicBezTo>
                <a:cubicBezTo>
                  <a:pt x="801" y="363"/>
                  <a:pt x="751" y="367"/>
                  <a:pt x="708" y="349"/>
                </a:cubicBezTo>
                <a:cubicBezTo>
                  <a:pt x="698" y="345"/>
                  <a:pt x="721" y="328"/>
                  <a:pt x="719" y="317"/>
                </a:cubicBezTo>
                <a:cubicBezTo>
                  <a:pt x="717" y="307"/>
                  <a:pt x="705" y="302"/>
                  <a:pt x="698" y="295"/>
                </a:cubicBezTo>
                <a:cubicBezTo>
                  <a:pt x="680" y="299"/>
                  <a:pt x="655" y="291"/>
                  <a:pt x="644" y="306"/>
                </a:cubicBezTo>
                <a:cubicBezTo>
                  <a:pt x="629" y="326"/>
                  <a:pt x="639" y="356"/>
                  <a:pt x="634" y="381"/>
                </a:cubicBezTo>
                <a:cubicBezTo>
                  <a:pt x="632" y="392"/>
                  <a:pt x="615" y="405"/>
                  <a:pt x="623" y="413"/>
                </a:cubicBezTo>
                <a:cubicBezTo>
                  <a:pt x="630" y="420"/>
                  <a:pt x="637" y="398"/>
                  <a:pt x="644" y="391"/>
                </a:cubicBezTo>
                <a:cubicBezTo>
                  <a:pt x="633" y="384"/>
                  <a:pt x="625" y="372"/>
                  <a:pt x="612" y="370"/>
                </a:cubicBezTo>
                <a:cubicBezTo>
                  <a:pt x="598" y="368"/>
                  <a:pt x="576" y="368"/>
                  <a:pt x="570" y="381"/>
                </a:cubicBezTo>
                <a:cubicBezTo>
                  <a:pt x="565" y="391"/>
                  <a:pt x="591" y="388"/>
                  <a:pt x="602" y="391"/>
                </a:cubicBezTo>
                <a:cubicBezTo>
                  <a:pt x="595" y="384"/>
                  <a:pt x="590" y="372"/>
                  <a:pt x="580" y="370"/>
                </a:cubicBezTo>
                <a:cubicBezTo>
                  <a:pt x="569" y="368"/>
                  <a:pt x="548" y="370"/>
                  <a:pt x="548" y="381"/>
                </a:cubicBezTo>
                <a:cubicBezTo>
                  <a:pt x="548" y="394"/>
                  <a:pt x="569" y="395"/>
                  <a:pt x="580" y="402"/>
                </a:cubicBezTo>
                <a:cubicBezTo>
                  <a:pt x="591" y="398"/>
                  <a:pt x="659" y="387"/>
                  <a:pt x="602" y="349"/>
                </a:cubicBezTo>
                <a:cubicBezTo>
                  <a:pt x="594" y="343"/>
                  <a:pt x="570" y="368"/>
                  <a:pt x="580" y="370"/>
                </a:cubicBezTo>
                <a:cubicBezTo>
                  <a:pt x="609" y="374"/>
                  <a:pt x="637" y="363"/>
                  <a:pt x="666" y="359"/>
                </a:cubicBezTo>
                <a:cubicBezTo>
                  <a:pt x="742" y="309"/>
                  <a:pt x="674" y="359"/>
                  <a:pt x="655" y="349"/>
                </a:cubicBezTo>
                <a:cubicBezTo>
                  <a:pt x="646" y="344"/>
                  <a:pt x="669" y="334"/>
                  <a:pt x="676" y="327"/>
                </a:cubicBezTo>
                <a:cubicBezTo>
                  <a:pt x="719" y="370"/>
                  <a:pt x="681" y="345"/>
                  <a:pt x="708" y="317"/>
                </a:cubicBezTo>
                <a:cubicBezTo>
                  <a:pt x="716" y="309"/>
                  <a:pt x="729" y="310"/>
                  <a:pt x="740" y="306"/>
                </a:cubicBezTo>
                <a:cubicBezTo>
                  <a:pt x="779" y="316"/>
                  <a:pt x="820" y="314"/>
                  <a:pt x="858" y="327"/>
                </a:cubicBezTo>
                <a:cubicBezTo>
                  <a:pt x="870" y="331"/>
                  <a:pt x="896" y="375"/>
                  <a:pt x="900" y="381"/>
                </a:cubicBezTo>
                <a:cubicBezTo>
                  <a:pt x="889" y="392"/>
                  <a:pt x="881" y="405"/>
                  <a:pt x="868" y="413"/>
                </a:cubicBezTo>
                <a:cubicBezTo>
                  <a:pt x="824" y="442"/>
                  <a:pt x="834" y="418"/>
                  <a:pt x="847" y="391"/>
                </a:cubicBezTo>
                <a:cubicBezTo>
                  <a:pt x="860" y="364"/>
                  <a:pt x="887" y="339"/>
                  <a:pt x="847" y="381"/>
                </a:cubicBezTo>
                <a:cubicBezTo>
                  <a:pt x="836" y="377"/>
                  <a:pt x="826" y="370"/>
                  <a:pt x="815" y="370"/>
                </a:cubicBezTo>
                <a:cubicBezTo>
                  <a:pt x="765" y="370"/>
                  <a:pt x="773" y="377"/>
                  <a:pt x="762" y="413"/>
                </a:cubicBezTo>
                <a:cubicBezTo>
                  <a:pt x="759" y="423"/>
                  <a:pt x="747" y="427"/>
                  <a:pt x="740" y="434"/>
                </a:cubicBezTo>
                <a:cubicBezTo>
                  <a:pt x="641" y="413"/>
                  <a:pt x="699" y="436"/>
                  <a:pt x="740" y="402"/>
                </a:cubicBezTo>
                <a:cubicBezTo>
                  <a:pt x="749" y="395"/>
                  <a:pt x="747" y="381"/>
                  <a:pt x="751" y="370"/>
                </a:cubicBezTo>
                <a:cubicBezTo>
                  <a:pt x="747" y="359"/>
                  <a:pt x="751" y="341"/>
                  <a:pt x="740" y="338"/>
                </a:cubicBezTo>
                <a:cubicBezTo>
                  <a:pt x="701" y="328"/>
                  <a:pt x="709" y="379"/>
                  <a:pt x="698" y="391"/>
                </a:cubicBezTo>
                <a:cubicBezTo>
                  <a:pt x="690" y="399"/>
                  <a:pt x="677" y="398"/>
                  <a:pt x="666" y="402"/>
                </a:cubicBezTo>
                <a:cubicBezTo>
                  <a:pt x="502" y="389"/>
                  <a:pt x="566" y="417"/>
                  <a:pt x="463" y="349"/>
                </a:cubicBezTo>
                <a:cubicBezTo>
                  <a:pt x="452" y="342"/>
                  <a:pt x="484" y="363"/>
                  <a:pt x="495" y="370"/>
                </a:cubicBezTo>
                <a:cubicBezTo>
                  <a:pt x="522" y="388"/>
                  <a:pt x="559" y="377"/>
                  <a:pt x="591" y="381"/>
                </a:cubicBezTo>
                <a:cubicBezTo>
                  <a:pt x="587" y="402"/>
                  <a:pt x="598" y="433"/>
                  <a:pt x="580" y="445"/>
                </a:cubicBezTo>
                <a:cubicBezTo>
                  <a:pt x="562" y="457"/>
                  <a:pt x="532" y="448"/>
                  <a:pt x="516" y="434"/>
                </a:cubicBezTo>
                <a:cubicBezTo>
                  <a:pt x="499" y="419"/>
                  <a:pt x="495" y="370"/>
                  <a:pt x="495" y="370"/>
                </a:cubicBezTo>
                <a:cubicBezTo>
                  <a:pt x="405" y="406"/>
                  <a:pt x="281" y="437"/>
                  <a:pt x="207" y="359"/>
                </a:cubicBezTo>
                <a:cubicBezTo>
                  <a:pt x="227" y="167"/>
                  <a:pt x="178" y="302"/>
                  <a:pt x="292" y="242"/>
                </a:cubicBezTo>
                <a:cubicBezTo>
                  <a:pt x="302" y="237"/>
                  <a:pt x="270" y="236"/>
                  <a:pt x="260" y="231"/>
                </a:cubicBezTo>
                <a:cubicBezTo>
                  <a:pt x="238" y="219"/>
                  <a:pt x="196" y="189"/>
                  <a:pt x="196" y="189"/>
                </a:cubicBezTo>
                <a:cubicBezTo>
                  <a:pt x="203" y="182"/>
                  <a:pt x="208" y="169"/>
                  <a:pt x="218" y="167"/>
                </a:cubicBezTo>
                <a:cubicBezTo>
                  <a:pt x="229" y="165"/>
                  <a:pt x="250" y="167"/>
                  <a:pt x="250" y="178"/>
                </a:cubicBezTo>
                <a:cubicBezTo>
                  <a:pt x="250" y="189"/>
                  <a:pt x="229" y="185"/>
                  <a:pt x="218" y="189"/>
                </a:cubicBezTo>
                <a:cubicBezTo>
                  <a:pt x="180" y="225"/>
                  <a:pt x="121" y="273"/>
                  <a:pt x="324" y="199"/>
                </a:cubicBezTo>
                <a:cubicBezTo>
                  <a:pt x="334" y="195"/>
                  <a:pt x="317" y="178"/>
                  <a:pt x="314" y="167"/>
                </a:cubicBezTo>
                <a:cubicBezTo>
                  <a:pt x="278" y="173"/>
                  <a:pt x="248" y="166"/>
                  <a:pt x="228" y="199"/>
                </a:cubicBezTo>
                <a:cubicBezTo>
                  <a:pt x="217" y="218"/>
                  <a:pt x="224" y="245"/>
                  <a:pt x="196" y="253"/>
                </a:cubicBezTo>
                <a:cubicBezTo>
                  <a:pt x="169" y="261"/>
                  <a:pt x="139" y="260"/>
                  <a:pt x="111" y="263"/>
                </a:cubicBezTo>
                <a:cubicBezTo>
                  <a:pt x="164" y="281"/>
                  <a:pt x="205" y="262"/>
                  <a:pt x="250" y="231"/>
                </a:cubicBezTo>
                <a:cubicBezTo>
                  <a:pt x="246" y="220"/>
                  <a:pt x="249" y="204"/>
                  <a:pt x="239" y="199"/>
                </a:cubicBezTo>
                <a:cubicBezTo>
                  <a:pt x="229" y="194"/>
                  <a:pt x="211" y="199"/>
                  <a:pt x="207" y="210"/>
                </a:cubicBezTo>
                <a:cubicBezTo>
                  <a:pt x="202" y="224"/>
                  <a:pt x="214" y="239"/>
                  <a:pt x="218" y="253"/>
                </a:cubicBezTo>
                <a:cubicBezTo>
                  <a:pt x="232" y="246"/>
                  <a:pt x="256" y="246"/>
                  <a:pt x="260" y="231"/>
                </a:cubicBezTo>
                <a:cubicBezTo>
                  <a:pt x="274" y="181"/>
                  <a:pt x="234" y="176"/>
                  <a:pt x="207" y="167"/>
                </a:cubicBezTo>
                <a:cubicBezTo>
                  <a:pt x="200" y="174"/>
                  <a:pt x="186" y="179"/>
                  <a:pt x="186" y="189"/>
                </a:cubicBezTo>
                <a:cubicBezTo>
                  <a:pt x="186" y="230"/>
                  <a:pt x="254" y="244"/>
                  <a:pt x="282" y="253"/>
                </a:cubicBezTo>
                <a:cubicBezTo>
                  <a:pt x="303" y="249"/>
                  <a:pt x="334" y="260"/>
                  <a:pt x="346" y="242"/>
                </a:cubicBezTo>
                <a:cubicBezTo>
                  <a:pt x="379" y="196"/>
                  <a:pt x="326" y="172"/>
                  <a:pt x="303" y="157"/>
                </a:cubicBezTo>
                <a:cubicBezTo>
                  <a:pt x="285" y="160"/>
                  <a:pt x="265" y="157"/>
                  <a:pt x="250" y="167"/>
                </a:cubicBezTo>
                <a:cubicBezTo>
                  <a:pt x="231" y="179"/>
                  <a:pt x="240" y="232"/>
                  <a:pt x="250" y="242"/>
                </a:cubicBezTo>
                <a:cubicBezTo>
                  <a:pt x="260" y="252"/>
                  <a:pt x="278" y="249"/>
                  <a:pt x="292" y="253"/>
                </a:cubicBezTo>
                <a:cubicBezTo>
                  <a:pt x="345" y="247"/>
                  <a:pt x="412" y="224"/>
                  <a:pt x="463" y="242"/>
                </a:cubicBezTo>
                <a:cubicBezTo>
                  <a:pt x="513" y="229"/>
                  <a:pt x="532" y="217"/>
                  <a:pt x="548" y="167"/>
                </a:cubicBezTo>
                <a:cubicBezTo>
                  <a:pt x="537" y="160"/>
                  <a:pt x="529" y="146"/>
                  <a:pt x="516" y="146"/>
                </a:cubicBezTo>
                <a:cubicBezTo>
                  <a:pt x="506" y="146"/>
                  <a:pt x="547" y="162"/>
                  <a:pt x="538" y="167"/>
                </a:cubicBezTo>
                <a:cubicBezTo>
                  <a:pt x="525" y="174"/>
                  <a:pt x="509" y="160"/>
                  <a:pt x="495" y="157"/>
                </a:cubicBezTo>
                <a:cubicBezTo>
                  <a:pt x="491" y="146"/>
                  <a:pt x="466" y="104"/>
                  <a:pt x="506" y="103"/>
                </a:cubicBezTo>
                <a:cubicBezTo>
                  <a:pt x="620" y="100"/>
                  <a:pt x="733" y="110"/>
                  <a:pt x="847" y="114"/>
                </a:cubicBezTo>
                <a:cubicBezTo>
                  <a:pt x="790" y="119"/>
                  <a:pt x="680" y="109"/>
                  <a:pt x="634" y="157"/>
                </a:cubicBezTo>
                <a:cubicBezTo>
                  <a:pt x="630" y="168"/>
                  <a:pt x="621" y="178"/>
                  <a:pt x="623" y="189"/>
                </a:cubicBezTo>
                <a:cubicBezTo>
                  <a:pt x="631" y="249"/>
                  <a:pt x="686" y="238"/>
                  <a:pt x="730" y="253"/>
                </a:cubicBezTo>
                <a:cubicBezTo>
                  <a:pt x="726" y="239"/>
                  <a:pt x="723" y="224"/>
                  <a:pt x="719" y="210"/>
                </a:cubicBezTo>
                <a:cubicBezTo>
                  <a:pt x="716" y="199"/>
                  <a:pt x="701" y="187"/>
                  <a:pt x="708" y="178"/>
                </a:cubicBezTo>
                <a:cubicBezTo>
                  <a:pt x="717" y="166"/>
                  <a:pt x="737" y="171"/>
                  <a:pt x="751" y="167"/>
                </a:cubicBezTo>
                <a:cubicBezTo>
                  <a:pt x="861" y="136"/>
                  <a:pt x="712" y="161"/>
                  <a:pt x="580" y="167"/>
                </a:cubicBezTo>
                <a:cubicBezTo>
                  <a:pt x="566" y="171"/>
                  <a:pt x="551" y="172"/>
                  <a:pt x="538" y="178"/>
                </a:cubicBezTo>
                <a:cubicBezTo>
                  <a:pt x="529" y="183"/>
                  <a:pt x="510" y="191"/>
                  <a:pt x="516" y="199"/>
                </a:cubicBezTo>
                <a:cubicBezTo>
                  <a:pt x="524" y="211"/>
                  <a:pt x="545" y="206"/>
                  <a:pt x="559" y="210"/>
                </a:cubicBezTo>
                <a:cubicBezTo>
                  <a:pt x="644" y="206"/>
                  <a:pt x="731" y="214"/>
                  <a:pt x="815" y="199"/>
                </a:cubicBezTo>
                <a:cubicBezTo>
                  <a:pt x="828" y="197"/>
                  <a:pt x="804" y="174"/>
                  <a:pt x="794" y="167"/>
                </a:cubicBezTo>
                <a:cubicBezTo>
                  <a:pt x="775" y="153"/>
                  <a:pt x="723" y="141"/>
                  <a:pt x="698" y="135"/>
                </a:cubicBezTo>
                <a:cubicBezTo>
                  <a:pt x="591" y="143"/>
                  <a:pt x="536" y="114"/>
                  <a:pt x="506" y="210"/>
                </a:cubicBezTo>
                <a:cubicBezTo>
                  <a:pt x="509" y="242"/>
                  <a:pt x="491" y="286"/>
                  <a:pt x="516" y="306"/>
                </a:cubicBezTo>
                <a:cubicBezTo>
                  <a:pt x="548" y="332"/>
                  <a:pt x="622" y="290"/>
                  <a:pt x="655" y="274"/>
                </a:cubicBezTo>
                <a:cubicBezTo>
                  <a:pt x="651" y="260"/>
                  <a:pt x="655" y="240"/>
                  <a:pt x="644" y="231"/>
                </a:cubicBezTo>
                <a:cubicBezTo>
                  <a:pt x="611" y="204"/>
                  <a:pt x="543" y="234"/>
                  <a:pt x="516" y="242"/>
                </a:cubicBezTo>
                <a:cubicBezTo>
                  <a:pt x="507" y="270"/>
                  <a:pt x="489" y="311"/>
                  <a:pt x="516" y="338"/>
                </a:cubicBezTo>
                <a:cubicBezTo>
                  <a:pt x="526" y="348"/>
                  <a:pt x="545" y="331"/>
                  <a:pt x="559" y="327"/>
                </a:cubicBezTo>
                <a:cubicBezTo>
                  <a:pt x="555" y="299"/>
                  <a:pt x="560" y="268"/>
                  <a:pt x="548" y="242"/>
                </a:cubicBezTo>
                <a:cubicBezTo>
                  <a:pt x="543" y="232"/>
                  <a:pt x="525" y="224"/>
                  <a:pt x="516" y="231"/>
                </a:cubicBezTo>
                <a:cubicBezTo>
                  <a:pt x="504" y="240"/>
                  <a:pt x="509" y="260"/>
                  <a:pt x="506" y="274"/>
                </a:cubicBezTo>
                <a:cubicBezTo>
                  <a:pt x="509" y="292"/>
                  <a:pt x="505" y="313"/>
                  <a:pt x="516" y="327"/>
                </a:cubicBezTo>
                <a:cubicBezTo>
                  <a:pt x="519" y="330"/>
                  <a:pt x="601" y="347"/>
                  <a:pt x="612" y="349"/>
                </a:cubicBezTo>
                <a:cubicBezTo>
                  <a:pt x="637" y="345"/>
                  <a:pt x="665" y="350"/>
                  <a:pt x="687" y="338"/>
                </a:cubicBezTo>
                <a:cubicBezTo>
                  <a:pt x="727" y="315"/>
                  <a:pt x="706" y="249"/>
                  <a:pt x="676" y="231"/>
                </a:cubicBezTo>
                <a:cubicBezTo>
                  <a:pt x="666" y="225"/>
                  <a:pt x="655" y="224"/>
                  <a:pt x="644" y="221"/>
                </a:cubicBezTo>
                <a:cubicBezTo>
                  <a:pt x="578" y="231"/>
                  <a:pt x="518" y="253"/>
                  <a:pt x="452" y="263"/>
                </a:cubicBezTo>
                <a:cubicBezTo>
                  <a:pt x="349" y="299"/>
                  <a:pt x="389" y="240"/>
                  <a:pt x="452" y="231"/>
                </a:cubicBezTo>
                <a:cubicBezTo>
                  <a:pt x="490" y="226"/>
                  <a:pt x="710" y="211"/>
                  <a:pt x="730" y="210"/>
                </a:cubicBezTo>
                <a:cubicBezTo>
                  <a:pt x="900" y="175"/>
                  <a:pt x="621" y="196"/>
                  <a:pt x="548" y="221"/>
                </a:cubicBezTo>
                <a:cubicBezTo>
                  <a:pt x="360" y="197"/>
                  <a:pt x="532" y="203"/>
                  <a:pt x="591" y="189"/>
                </a:cubicBezTo>
                <a:cubicBezTo>
                  <a:pt x="577" y="185"/>
                  <a:pt x="563" y="176"/>
                  <a:pt x="548" y="178"/>
                </a:cubicBezTo>
                <a:cubicBezTo>
                  <a:pt x="532" y="180"/>
                  <a:pt x="521" y="194"/>
                  <a:pt x="506" y="199"/>
                </a:cubicBezTo>
                <a:cubicBezTo>
                  <a:pt x="467" y="212"/>
                  <a:pt x="427" y="219"/>
                  <a:pt x="388" y="231"/>
                </a:cubicBezTo>
                <a:cubicBezTo>
                  <a:pt x="321" y="298"/>
                  <a:pt x="319" y="284"/>
                  <a:pt x="527" y="274"/>
                </a:cubicBezTo>
                <a:cubicBezTo>
                  <a:pt x="543" y="273"/>
                  <a:pt x="555" y="259"/>
                  <a:pt x="570" y="253"/>
                </a:cubicBezTo>
                <a:cubicBezTo>
                  <a:pt x="584" y="248"/>
                  <a:pt x="626" y="242"/>
                  <a:pt x="612" y="242"/>
                </a:cubicBezTo>
                <a:cubicBezTo>
                  <a:pt x="583" y="242"/>
                  <a:pt x="555" y="249"/>
                  <a:pt x="527" y="253"/>
                </a:cubicBezTo>
                <a:cubicBezTo>
                  <a:pt x="552" y="256"/>
                  <a:pt x="627" y="264"/>
                  <a:pt x="602" y="263"/>
                </a:cubicBezTo>
                <a:cubicBezTo>
                  <a:pt x="470" y="258"/>
                  <a:pt x="338" y="254"/>
                  <a:pt x="207" y="242"/>
                </a:cubicBezTo>
                <a:cubicBezTo>
                  <a:pt x="192" y="241"/>
                  <a:pt x="235" y="233"/>
                  <a:pt x="250" y="231"/>
                </a:cubicBezTo>
                <a:cubicBezTo>
                  <a:pt x="282" y="226"/>
                  <a:pt x="314" y="225"/>
                  <a:pt x="346" y="221"/>
                </a:cubicBezTo>
                <a:cubicBezTo>
                  <a:pt x="417" y="211"/>
                  <a:pt x="491" y="202"/>
                  <a:pt x="559" y="178"/>
                </a:cubicBezTo>
                <a:cubicBezTo>
                  <a:pt x="488" y="174"/>
                  <a:pt x="416" y="177"/>
                  <a:pt x="346" y="167"/>
                </a:cubicBezTo>
                <a:cubicBezTo>
                  <a:pt x="325" y="164"/>
                  <a:pt x="388" y="157"/>
                  <a:pt x="410" y="157"/>
                </a:cubicBezTo>
                <a:cubicBezTo>
                  <a:pt x="435" y="157"/>
                  <a:pt x="459" y="164"/>
                  <a:pt x="484" y="167"/>
                </a:cubicBezTo>
                <a:cubicBezTo>
                  <a:pt x="460" y="175"/>
                  <a:pt x="430" y="180"/>
                  <a:pt x="420" y="210"/>
                </a:cubicBezTo>
                <a:cubicBezTo>
                  <a:pt x="416" y="221"/>
                  <a:pt x="420" y="239"/>
                  <a:pt x="431" y="242"/>
                </a:cubicBezTo>
                <a:cubicBezTo>
                  <a:pt x="493" y="258"/>
                  <a:pt x="623" y="263"/>
                  <a:pt x="623" y="263"/>
                </a:cubicBezTo>
                <a:cubicBezTo>
                  <a:pt x="584" y="267"/>
                  <a:pt x="545" y="270"/>
                  <a:pt x="506" y="274"/>
                </a:cubicBezTo>
                <a:cubicBezTo>
                  <a:pt x="481" y="277"/>
                  <a:pt x="456" y="285"/>
                  <a:pt x="431" y="285"/>
                </a:cubicBezTo>
                <a:cubicBezTo>
                  <a:pt x="416" y="285"/>
                  <a:pt x="460" y="277"/>
                  <a:pt x="474" y="274"/>
                </a:cubicBezTo>
                <a:cubicBezTo>
                  <a:pt x="492" y="270"/>
                  <a:pt x="509" y="267"/>
                  <a:pt x="527" y="263"/>
                </a:cubicBezTo>
                <a:cubicBezTo>
                  <a:pt x="538" y="260"/>
                  <a:pt x="570" y="253"/>
                  <a:pt x="559" y="253"/>
                </a:cubicBezTo>
                <a:cubicBezTo>
                  <a:pt x="520" y="253"/>
                  <a:pt x="481" y="260"/>
                  <a:pt x="442" y="263"/>
                </a:cubicBezTo>
                <a:cubicBezTo>
                  <a:pt x="390" y="315"/>
                  <a:pt x="396" y="311"/>
                  <a:pt x="463" y="338"/>
                </a:cubicBezTo>
                <a:cubicBezTo>
                  <a:pt x="491" y="334"/>
                  <a:pt x="523" y="341"/>
                  <a:pt x="548" y="327"/>
                </a:cubicBezTo>
                <a:cubicBezTo>
                  <a:pt x="558" y="321"/>
                  <a:pt x="548" y="299"/>
                  <a:pt x="538" y="295"/>
                </a:cubicBezTo>
                <a:cubicBezTo>
                  <a:pt x="508" y="283"/>
                  <a:pt x="474" y="288"/>
                  <a:pt x="442" y="285"/>
                </a:cubicBezTo>
                <a:cubicBezTo>
                  <a:pt x="548" y="257"/>
                  <a:pt x="419" y="269"/>
                  <a:pt x="399" y="274"/>
                </a:cubicBezTo>
                <a:cubicBezTo>
                  <a:pt x="413" y="281"/>
                  <a:pt x="426" y="294"/>
                  <a:pt x="442" y="295"/>
                </a:cubicBezTo>
                <a:cubicBezTo>
                  <a:pt x="530" y="301"/>
                  <a:pt x="623" y="270"/>
                  <a:pt x="708" y="253"/>
                </a:cubicBezTo>
                <a:cubicBezTo>
                  <a:pt x="809" y="233"/>
                  <a:pt x="502" y="260"/>
                  <a:pt x="399" y="263"/>
                </a:cubicBezTo>
                <a:cubicBezTo>
                  <a:pt x="537" y="231"/>
                  <a:pt x="296" y="285"/>
                  <a:pt x="527" y="242"/>
                </a:cubicBezTo>
                <a:cubicBezTo>
                  <a:pt x="538" y="240"/>
                  <a:pt x="570" y="231"/>
                  <a:pt x="559" y="231"/>
                </a:cubicBezTo>
                <a:cubicBezTo>
                  <a:pt x="513" y="231"/>
                  <a:pt x="466" y="238"/>
                  <a:pt x="420" y="242"/>
                </a:cubicBezTo>
                <a:cubicBezTo>
                  <a:pt x="402" y="270"/>
                  <a:pt x="372" y="300"/>
                  <a:pt x="410" y="338"/>
                </a:cubicBezTo>
                <a:cubicBezTo>
                  <a:pt x="425" y="353"/>
                  <a:pt x="453" y="345"/>
                  <a:pt x="474" y="349"/>
                </a:cubicBezTo>
                <a:cubicBezTo>
                  <a:pt x="492" y="345"/>
                  <a:pt x="517" y="353"/>
                  <a:pt x="527" y="338"/>
                </a:cubicBezTo>
                <a:cubicBezTo>
                  <a:pt x="537" y="323"/>
                  <a:pt x="509" y="265"/>
                  <a:pt x="495" y="253"/>
                </a:cubicBezTo>
                <a:cubicBezTo>
                  <a:pt x="486" y="246"/>
                  <a:pt x="474" y="246"/>
                  <a:pt x="463" y="242"/>
                </a:cubicBezTo>
                <a:cubicBezTo>
                  <a:pt x="403" y="246"/>
                  <a:pt x="340" y="237"/>
                  <a:pt x="282" y="253"/>
                </a:cubicBezTo>
                <a:cubicBezTo>
                  <a:pt x="268" y="257"/>
                  <a:pt x="266" y="281"/>
                  <a:pt x="271" y="295"/>
                </a:cubicBezTo>
                <a:cubicBezTo>
                  <a:pt x="275" y="307"/>
                  <a:pt x="292" y="310"/>
                  <a:pt x="303" y="317"/>
                </a:cubicBezTo>
                <a:cubicBezTo>
                  <a:pt x="421" y="309"/>
                  <a:pt x="461" y="337"/>
                  <a:pt x="516" y="253"/>
                </a:cubicBezTo>
                <a:cubicBezTo>
                  <a:pt x="498" y="194"/>
                  <a:pt x="489" y="195"/>
                  <a:pt x="431" y="210"/>
                </a:cubicBezTo>
                <a:cubicBezTo>
                  <a:pt x="405" y="288"/>
                  <a:pt x="405" y="252"/>
                  <a:pt x="420" y="317"/>
                </a:cubicBezTo>
                <a:cubicBezTo>
                  <a:pt x="503" y="307"/>
                  <a:pt x="526" y="317"/>
                  <a:pt x="580" y="263"/>
                </a:cubicBezTo>
                <a:cubicBezTo>
                  <a:pt x="584" y="252"/>
                  <a:pt x="594" y="242"/>
                  <a:pt x="591" y="231"/>
                </a:cubicBezTo>
                <a:cubicBezTo>
                  <a:pt x="570" y="156"/>
                  <a:pt x="519" y="198"/>
                  <a:pt x="463" y="210"/>
                </a:cubicBezTo>
                <a:cubicBezTo>
                  <a:pt x="467" y="231"/>
                  <a:pt x="462" y="256"/>
                  <a:pt x="474" y="274"/>
                </a:cubicBezTo>
                <a:cubicBezTo>
                  <a:pt x="478" y="279"/>
                  <a:pt x="555" y="292"/>
                  <a:pt x="570" y="295"/>
                </a:cubicBezTo>
                <a:cubicBezTo>
                  <a:pt x="648" y="292"/>
                  <a:pt x="727" y="298"/>
                  <a:pt x="804" y="285"/>
                </a:cubicBezTo>
                <a:cubicBezTo>
                  <a:pt x="856" y="276"/>
                  <a:pt x="811" y="230"/>
                  <a:pt x="804" y="221"/>
                </a:cubicBezTo>
                <a:cubicBezTo>
                  <a:pt x="774" y="184"/>
                  <a:pt x="732" y="186"/>
                  <a:pt x="687" y="178"/>
                </a:cubicBezTo>
                <a:cubicBezTo>
                  <a:pt x="612" y="182"/>
                  <a:pt x="532" y="161"/>
                  <a:pt x="463" y="189"/>
                </a:cubicBezTo>
                <a:cubicBezTo>
                  <a:pt x="440" y="198"/>
                  <a:pt x="464" y="240"/>
                  <a:pt x="474" y="263"/>
                </a:cubicBezTo>
                <a:cubicBezTo>
                  <a:pt x="487" y="291"/>
                  <a:pt x="555" y="293"/>
                  <a:pt x="570" y="295"/>
                </a:cubicBezTo>
                <a:cubicBezTo>
                  <a:pt x="681" y="286"/>
                  <a:pt x="685" y="297"/>
                  <a:pt x="751" y="231"/>
                </a:cubicBezTo>
                <a:cubicBezTo>
                  <a:pt x="735" y="126"/>
                  <a:pt x="748" y="166"/>
                  <a:pt x="666" y="125"/>
                </a:cubicBezTo>
                <a:cubicBezTo>
                  <a:pt x="461" y="133"/>
                  <a:pt x="378" y="63"/>
                  <a:pt x="410" y="221"/>
                </a:cubicBezTo>
                <a:cubicBezTo>
                  <a:pt x="424" y="217"/>
                  <a:pt x="441" y="219"/>
                  <a:pt x="452" y="210"/>
                </a:cubicBezTo>
                <a:cubicBezTo>
                  <a:pt x="464" y="200"/>
                  <a:pt x="465" y="181"/>
                  <a:pt x="474" y="167"/>
                </a:cubicBezTo>
                <a:cubicBezTo>
                  <a:pt x="502" y="122"/>
                  <a:pt x="529" y="110"/>
                  <a:pt x="474" y="146"/>
                </a:cubicBezTo>
                <a:cubicBezTo>
                  <a:pt x="467" y="164"/>
                  <a:pt x="452" y="180"/>
                  <a:pt x="452" y="199"/>
                </a:cubicBezTo>
                <a:cubicBezTo>
                  <a:pt x="452" y="299"/>
                  <a:pt x="548" y="247"/>
                  <a:pt x="612" y="242"/>
                </a:cubicBezTo>
                <a:cubicBezTo>
                  <a:pt x="626" y="238"/>
                  <a:pt x="648" y="244"/>
                  <a:pt x="655" y="231"/>
                </a:cubicBezTo>
                <a:cubicBezTo>
                  <a:pt x="660" y="221"/>
                  <a:pt x="633" y="217"/>
                  <a:pt x="623" y="221"/>
                </a:cubicBezTo>
                <a:cubicBezTo>
                  <a:pt x="611" y="226"/>
                  <a:pt x="609" y="242"/>
                  <a:pt x="602" y="253"/>
                </a:cubicBezTo>
                <a:cubicBezTo>
                  <a:pt x="691" y="311"/>
                  <a:pt x="646" y="309"/>
                  <a:pt x="772" y="295"/>
                </a:cubicBezTo>
                <a:cubicBezTo>
                  <a:pt x="776" y="284"/>
                  <a:pt x="785" y="274"/>
                  <a:pt x="783" y="263"/>
                </a:cubicBezTo>
                <a:cubicBezTo>
                  <a:pt x="775" y="201"/>
                  <a:pt x="707" y="153"/>
                  <a:pt x="655" y="135"/>
                </a:cubicBezTo>
                <a:cubicBezTo>
                  <a:pt x="572" y="152"/>
                  <a:pt x="620" y="126"/>
                  <a:pt x="591" y="178"/>
                </a:cubicBezTo>
                <a:cubicBezTo>
                  <a:pt x="578" y="200"/>
                  <a:pt x="548" y="242"/>
                  <a:pt x="548" y="242"/>
                </a:cubicBezTo>
                <a:cubicBezTo>
                  <a:pt x="569" y="344"/>
                  <a:pt x="604" y="305"/>
                  <a:pt x="719" y="295"/>
                </a:cubicBezTo>
                <a:cubicBezTo>
                  <a:pt x="725" y="278"/>
                  <a:pt x="743" y="248"/>
                  <a:pt x="719" y="231"/>
                </a:cubicBezTo>
                <a:cubicBezTo>
                  <a:pt x="701" y="218"/>
                  <a:pt x="655" y="210"/>
                  <a:pt x="655" y="210"/>
                </a:cubicBezTo>
                <a:cubicBezTo>
                  <a:pt x="550" y="228"/>
                  <a:pt x="581" y="242"/>
                  <a:pt x="570" y="359"/>
                </a:cubicBezTo>
                <a:cubicBezTo>
                  <a:pt x="471" y="347"/>
                  <a:pt x="417" y="339"/>
                  <a:pt x="314" y="349"/>
                </a:cubicBezTo>
                <a:cubicBezTo>
                  <a:pt x="260" y="366"/>
                  <a:pt x="218" y="381"/>
                  <a:pt x="196" y="317"/>
                </a:cubicBezTo>
                <a:cubicBezTo>
                  <a:pt x="200" y="303"/>
                  <a:pt x="197" y="284"/>
                  <a:pt x="207" y="274"/>
                </a:cubicBezTo>
                <a:cubicBezTo>
                  <a:pt x="217" y="264"/>
                  <a:pt x="236" y="267"/>
                  <a:pt x="250" y="263"/>
                </a:cubicBezTo>
                <a:cubicBezTo>
                  <a:pt x="276" y="256"/>
                  <a:pt x="298" y="237"/>
                  <a:pt x="324" y="231"/>
                </a:cubicBezTo>
                <a:cubicBezTo>
                  <a:pt x="359" y="223"/>
                  <a:pt x="395" y="224"/>
                  <a:pt x="431" y="221"/>
                </a:cubicBezTo>
                <a:cubicBezTo>
                  <a:pt x="438" y="232"/>
                  <a:pt x="452" y="240"/>
                  <a:pt x="452" y="253"/>
                </a:cubicBezTo>
                <a:cubicBezTo>
                  <a:pt x="452" y="298"/>
                  <a:pt x="371" y="301"/>
                  <a:pt x="346" y="306"/>
                </a:cubicBezTo>
                <a:cubicBezTo>
                  <a:pt x="307" y="302"/>
                  <a:pt x="266" y="307"/>
                  <a:pt x="228" y="295"/>
                </a:cubicBezTo>
                <a:cubicBezTo>
                  <a:pt x="216" y="291"/>
                  <a:pt x="195" y="267"/>
                  <a:pt x="207" y="263"/>
                </a:cubicBezTo>
                <a:cubicBezTo>
                  <a:pt x="236" y="254"/>
                  <a:pt x="264" y="284"/>
                  <a:pt x="292" y="295"/>
                </a:cubicBezTo>
                <a:cubicBezTo>
                  <a:pt x="310" y="302"/>
                  <a:pt x="365" y="317"/>
                  <a:pt x="346" y="317"/>
                </a:cubicBezTo>
                <a:cubicBezTo>
                  <a:pt x="323" y="317"/>
                  <a:pt x="282" y="295"/>
                  <a:pt x="282" y="295"/>
                </a:cubicBezTo>
                <a:cubicBezTo>
                  <a:pt x="335" y="214"/>
                  <a:pt x="263" y="286"/>
                  <a:pt x="250" y="306"/>
                </a:cubicBezTo>
                <a:cubicBezTo>
                  <a:pt x="296" y="322"/>
                  <a:pt x="497" y="332"/>
                  <a:pt x="388" y="295"/>
                </a:cubicBezTo>
                <a:cubicBezTo>
                  <a:pt x="363" y="299"/>
                  <a:pt x="338" y="301"/>
                  <a:pt x="314" y="306"/>
                </a:cubicBezTo>
                <a:cubicBezTo>
                  <a:pt x="303" y="308"/>
                  <a:pt x="271" y="317"/>
                  <a:pt x="282" y="317"/>
                </a:cubicBezTo>
                <a:cubicBezTo>
                  <a:pt x="296" y="317"/>
                  <a:pt x="310" y="310"/>
                  <a:pt x="324" y="306"/>
                </a:cubicBezTo>
                <a:cubicBezTo>
                  <a:pt x="331" y="299"/>
                  <a:pt x="346" y="295"/>
                  <a:pt x="346" y="285"/>
                </a:cubicBezTo>
                <a:cubicBezTo>
                  <a:pt x="346" y="264"/>
                  <a:pt x="302" y="256"/>
                  <a:pt x="292" y="253"/>
                </a:cubicBezTo>
                <a:cubicBezTo>
                  <a:pt x="268" y="256"/>
                  <a:pt x="109" y="253"/>
                  <a:pt x="228" y="359"/>
                </a:cubicBezTo>
                <a:cubicBezTo>
                  <a:pt x="249" y="378"/>
                  <a:pt x="285" y="352"/>
                  <a:pt x="314" y="349"/>
                </a:cubicBezTo>
                <a:cubicBezTo>
                  <a:pt x="323" y="347"/>
                  <a:pt x="377" y="334"/>
                  <a:pt x="388" y="327"/>
                </a:cubicBezTo>
                <a:cubicBezTo>
                  <a:pt x="429" y="303"/>
                  <a:pt x="431" y="288"/>
                  <a:pt x="484" y="274"/>
                </a:cubicBezTo>
                <a:cubicBezTo>
                  <a:pt x="534" y="278"/>
                  <a:pt x="585" y="273"/>
                  <a:pt x="634" y="285"/>
                </a:cubicBezTo>
                <a:cubicBezTo>
                  <a:pt x="649" y="288"/>
                  <a:pt x="654" y="307"/>
                  <a:pt x="666" y="317"/>
                </a:cubicBezTo>
                <a:cubicBezTo>
                  <a:pt x="697" y="343"/>
                  <a:pt x="733" y="352"/>
                  <a:pt x="762" y="381"/>
                </a:cubicBezTo>
                <a:cubicBezTo>
                  <a:pt x="664" y="412"/>
                  <a:pt x="454" y="364"/>
                  <a:pt x="346" y="327"/>
                </a:cubicBezTo>
                <a:cubicBezTo>
                  <a:pt x="334" y="315"/>
                  <a:pt x="306" y="292"/>
                  <a:pt x="303" y="274"/>
                </a:cubicBezTo>
                <a:cubicBezTo>
                  <a:pt x="298" y="241"/>
                  <a:pt x="328" y="236"/>
                  <a:pt x="346" y="221"/>
                </a:cubicBezTo>
                <a:cubicBezTo>
                  <a:pt x="399" y="178"/>
                  <a:pt x="408" y="178"/>
                  <a:pt x="474" y="157"/>
                </a:cubicBezTo>
                <a:cubicBezTo>
                  <a:pt x="531" y="165"/>
                  <a:pt x="578" y="178"/>
                  <a:pt x="634" y="189"/>
                </a:cubicBezTo>
                <a:cubicBezTo>
                  <a:pt x="648" y="200"/>
                  <a:pt x="665" y="207"/>
                  <a:pt x="676" y="221"/>
                </a:cubicBezTo>
                <a:cubicBezTo>
                  <a:pt x="739" y="297"/>
                  <a:pt x="584" y="310"/>
                  <a:pt x="548" y="317"/>
                </a:cubicBezTo>
                <a:cubicBezTo>
                  <a:pt x="473" y="313"/>
                  <a:pt x="398" y="320"/>
                  <a:pt x="324" y="306"/>
                </a:cubicBezTo>
                <a:cubicBezTo>
                  <a:pt x="313" y="304"/>
                  <a:pt x="310" y="285"/>
                  <a:pt x="314" y="274"/>
                </a:cubicBezTo>
                <a:cubicBezTo>
                  <a:pt x="322" y="250"/>
                  <a:pt x="335" y="224"/>
                  <a:pt x="356" y="210"/>
                </a:cubicBezTo>
                <a:cubicBezTo>
                  <a:pt x="409" y="175"/>
                  <a:pt x="454" y="159"/>
                  <a:pt x="516" y="146"/>
                </a:cubicBezTo>
                <a:cubicBezTo>
                  <a:pt x="610" y="151"/>
                  <a:pt x="740" y="106"/>
                  <a:pt x="772" y="210"/>
                </a:cubicBezTo>
                <a:cubicBezTo>
                  <a:pt x="765" y="231"/>
                  <a:pt x="762" y="254"/>
                  <a:pt x="751" y="274"/>
                </a:cubicBezTo>
                <a:cubicBezTo>
                  <a:pt x="731" y="311"/>
                  <a:pt x="678" y="321"/>
                  <a:pt x="644" y="338"/>
                </a:cubicBezTo>
                <a:cubicBezTo>
                  <a:pt x="506" y="332"/>
                  <a:pt x="414" y="388"/>
                  <a:pt x="378" y="274"/>
                </a:cubicBezTo>
                <a:cubicBezTo>
                  <a:pt x="381" y="263"/>
                  <a:pt x="379" y="249"/>
                  <a:pt x="388" y="242"/>
                </a:cubicBezTo>
                <a:cubicBezTo>
                  <a:pt x="405" y="228"/>
                  <a:pt x="491" y="195"/>
                  <a:pt x="516" y="189"/>
                </a:cubicBezTo>
                <a:cubicBezTo>
                  <a:pt x="629" y="196"/>
                  <a:pt x="698" y="176"/>
                  <a:pt x="772" y="253"/>
                </a:cubicBezTo>
                <a:cubicBezTo>
                  <a:pt x="744" y="295"/>
                  <a:pt x="757" y="312"/>
                  <a:pt x="708" y="327"/>
                </a:cubicBezTo>
                <a:cubicBezTo>
                  <a:pt x="658" y="361"/>
                  <a:pt x="587" y="369"/>
                  <a:pt x="527" y="381"/>
                </a:cubicBezTo>
                <a:cubicBezTo>
                  <a:pt x="491" y="377"/>
                  <a:pt x="447" y="394"/>
                  <a:pt x="420" y="370"/>
                </a:cubicBezTo>
                <a:cubicBezTo>
                  <a:pt x="401" y="353"/>
                  <a:pt x="424" y="319"/>
                  <a:pt x="431" y="295"/>
                </a:cubicBezTo>
                <a:cubicBezTo>
                  <a:pt x="444" y="250"/>
                  <a:pt x="519" y="224"/>
                  <a:pt x="559" y="210"/>
                </a:cubicBezTo>
                <a:cubicBezTo>
                  <a:pt x="595" y="216"/>
                  <a:pt x="636" y="211"/>
                  <a:pt x="666" y="231"/>
                </a:cubicBezTo>
                <a:cubicBezTo>
                  <a:pt x="687" y="245"/>
                  <a:pt x="719" y="285"/>
                  <a:pt x="719" y="285"/>
                </a:cubicBezTo>
                <a:cubicBezTo>
                  <a:pt x="736" y="335"/>
                  <a:pt x="716" y="326"/>
                  <a:pt x="687" y="370"/>
                </a:cubicBezTo>
                <a:cubicBezTo>
                  <a:pt x="609" y="363"/>
                  <a:pt x="529" y="366"/>
                  <a:pt x="452" y="349"/>
                </a:cubicBezTo>
                <a:cubicBezTo>
                  <a:pt x="428" y="344"/>
                  <a:pt x="452" y="274"/>
                  <a:pt x="452" y="274"/>
                </a:cubicBezTo>
                <a:cubicBezTo>
                  <a:pt x="457" y="268"/>
                  <a:pt x="527" y="253"/>
                  <a:pt x="527" y="253"/>
                </a:cubicBezTo>
                <a:cubicBezTo>
                  <a:pt x="587" y="256"/>
                  <a:pt x="648" y="254"/>
                  <a:pt x="708" y="263"/>
                </a:cubicBezTo>
                <a:cubicBezTo>
                  <a:pt x="718" y="265"/>
                  <a:pt x="729" y="275"/>
                  <a:pt x="730" y="285"/>
                </a:cubicBezTo>
                <a:cubicBezTo>
                  <a:pt x="733" y="331"/>
                  <a:pt x="734" y="379"/>
                  <a:pt x="719" y="423"/>
                </a:cubicBezTo>
                <a:cubicBezTo>
                  <a:pt x="711" y="447"/>
                  <a:pt x="666" y="477"/>
                  <a:pt x="666" y="477"/>
                </a:cubicBezTo>
                <a:cubicBezTo>
                  <a:pt x="512" y="466"/>
                  <a:pt x="509" y="503"/>
                  <a:pt x="474" y="391"/>
                </a:cubicBezTo>
                <a:cubicBezTo>
                  <a:pt x="477" y="370"/>
                  <a:pt x="470" y="343"/>
                  <a:pt x="484" y="327"/>
                </a:cubicBezTo>
                <a:cubicBezTo>
                  <a:pt x="503" y="305"/>
                  <a:pt x="542" y="316"/>
                  <a:pt x="570" y="306"/>
                </a:cubicBezTo>
                <a:cubicBezTo>
                  <a:pt x="595" y="310"/>
                  <a:pt x="631" y="296"/>
                  <a:pt x="644" y="317"/>
                </a:cubicBezTo>
                <a:cubicBezTo>
                  <a:pt x="653" y="333"/>
                  <a:pt x="644" y="424"/>
                  <a:pt x="612" y="445"/>
                </a:cubicBezTo>
                <a:cubicBezTo>
                  <a:pt x="575" y="469"/>
                  <a:pt x="458" y="474"/>
                  <a:pt x="431" y="477"/>
                </a:cubicBezTo>
                <a:cubicBezTo>
                  <a:pt x="346" y="473"/>
                  <a:pt x="259" y="480"/>
                  <a:pt x="175" y="466"/>
                </a:cubicBezTo>
                <a:cubicBezTo>
                  <a:pt x="152" y="462"/>
                  <a:pt x="170" y="358"/>
                  <a:pt x="196" y="349"/>
                </a:cubicBezTo>
                <a:cubicBezTo>
                  <a:pt x="230" y="338"/>
                  <a:pt x="267" y="342"/>
                  <a:pt x="303" y="338"/>
                </a:cubicBezTo>
                <a:cubicBezTo>
                  <a:pt x="367" y="325"/>
                  <a:pt x="458" y="286"/>
                  <a:pt x="484" y="370"/>
                </a:cubicBezTo>
                <a:cubicBezTo>
                  <a:pt x="466" y="463"/>
                  <a:pt x="472" y="451"/>
                  <a:pt x="378" y="423"/>
                </a:cubicBezTo>
                <a:cubicBezTo>
                  <a:pt x="373" y="416"/>
                  <a:pt x="340" y="374"/>
                  <a:pt x="346" y="359"/>
                </a:cubicBezTo>
                <a:cubicBezTo>
                  <a:pt x="354" y="339"/>
                  <a:pt x="406" y="331"/>
                  <a:pt x="420" y="327"/>
                </a:cubicBezTo>
                <a:cubicBezTo>
                  <a:pt x="463" y="331"/>
                  <a:pt x="507" y="325"/>
                  <a:pt x="548" y="338"/>
                </a:cubicBezTo>
                <a:cubicBezTo>
                  <a:pt x="582" y="348"/>
                  <a:pt x="544" y="399"/>
                  <a:pt x="538" y="402"/>
                </a:cubicBezTo>
                <a:cubicBezTo>
                  <a:pt x="522" y="411"/>
                  <a:pt x="502" y="409"/>
                  <a:pt x="484" y="413"/>
                </a:cubicBezTo>
                <a:cubicBezTo>
                  <a:pt x="424" y="409"/>
                  <a:pt x="363" y="408"/>
                  <a:pt x="303" y="402"/>
                </a:cubicBezTo>
                <a:cubicBezTo>
                  <a:pt x="292" y="401"/>
                  <a:pt x="271" y="402"/>
                  <a:pt x="271" y="391"/>
                </a:cubicBezTo>
                <a:cubicBezTo>
                  <a:pt x="271" y="349"/>
                  <a:pt x="377" y="343"/>
                  <a:pt x="399" y="338"/>
                </a:cubicBezTo>
                <a:cubicBezTo>
                  <a:pt x="424" y="342"/>
                  <a:pt x="451" y="338"/>
                  <a:pt x="474" y="349"/>
                </a:cubicBezTo>
                <a:cubicBezTo>
                  <a:pt x="492" y="358"/>
                  <a:pt x="481" y="417"/>
                  <a:pt x="474" y="423"/>
                </a:cubicBezTo>
                <a:cubicBezTo>
                  <a:pt x="460" y="435"/>
                  <a:pt x="438" y="430"/>
                  <a:pt x="420" y="434"/>
                </a:cubicBezTo>
                <a:cubicBezTo>
                  <a:pt x="330" y="427"/>
                  <a:pt x="257" y="455"/>
                  <a:pt x="228" y="370"/>
                </a:cubicBezTo>
                <a:cubicBezTo>
                  <a:pt x="239" y="366"/>
                  <a:pt x="250" y="363"/>
                  <a:pt x="260" y="359"/>
                </a:cubicBezTo>
                <a:cubicBezTo>
                  <a:pt x="275" y="353"/>
                  <a:pt x="288" y="344"/>
                  <a:pt x="303" y="338"/>
                </a:cubicBezTo>
                <a:cubicBezTo>
                  <a:pt x="324" y="330"/>
                  <a:pt x="367" y="317"/>
                  <a:pt x="367" y="317"/>
                </a:cubicBezTo>
                <a:cubicBezTo>
                  <a:pt x="447" y="328"/>
                  <a:pt x="450" y="322"/>
                  <a:pt x="474" y="391"/>
                </a:cubicBezTo>
                <a:cubicBezTo>
                  <a:pt x="444" y="510"/>
                  <a:pt x="356" y="462"/>
                  <a:pt x="239" y="455"/>
                </a:cubicBezTo>
                <a:cubicBezTo>
                  <a:pt x="243" y="434"/>
                  <a:pt x="239" y="410"/>
                  <a:pt x="250" y="391"/>
                </a:cubicBezTo>
                <a:cubicBezTo>
                  <a:pt x="256" y="381"/>
                  <a:pt x="271" y="384"/>
                  <a:pt x="282" y="381"/>
                </a:cubicBezTo>
                <a:cubicBezTo>
                  <a:pt x="328" y="370"/>
                  <a:pt x="373" y="358"/>
                  <a:pt x="420" y="349"/>
                </a:cubicBezTo>
                <a:cubicBezTo>
                  <a:pt x="449" y="352"/>
                  <a:pt x="487" y="337"/>
                  <a:pt x="506" y="359"/>
                </a:cubicBezTo>
                <a:cubicBezTo>
                  <a:pt x="558" y="418"/>
                  <a:pt x="476" y="443"/>
                  <a:pt x="452" y="455"/>
                </a:cubicBezTo>
                <a:cubicBezTo>
                  <a:pt x="399" y="452"/>
                  <a:pt x="344" y="458"/>
                  <a:pt x="292" y="445"/>
                </a:cubicBezTo>
                <a:cubicBezTo>
                  <a:pt x="280" y="442"/>
                  <a:pt x="277" y="385"/>
                  <a:pt x="292" y="359"/>
                </a:cubicBezTo>
                <a:cubicBezTo>
                  <a:pt x="314" y="320"/>
                  <a:pt x="439" y="311"/>
                  <a:pt x="474" y="306"/>
                </a:cubicBezTo>
                <a:cubicBezTo>
                  <a:pt x="757" y="321"/>
                  <a:pt x="629" y="273"/>
                  <a:pt x="730" y="370"/>
                </a:cubicBezTo>
                <a:cubicBezTo>
                  <a:pt x="688" y="492"/>
                  <a:pt x="666" y="455"/>
                  <a:pt x="527" y="445"/>
                </a:cubicBezTo>
                <a:cubicBezTo>
                  <a:pt x="496" y="414"/>
                  <a:pt x="461" y="390"/>
                  <a:pt x="431" y="359"/>
                </a:cubicBezTo>
                <a:cubicBezTo>
                  <a:pt x="418" y="308"/>
                  <a:pt x="408" y="302"/>
                  <a:pt x="442" y="242"/>
                </a:cubicBezTo>
                <a:cubicBezTo>
                  <a:pt x="462" y="206"/>
                  <a:pt x="559" y="199"/>
                  <a:pt x="559" y="199"/>
                </a:cubicBezTo>
                <a:cubicBezTo>
                  <a:pt x="595" y="203"/>
                  <a:pt x="632" y="198"/>
                  <a:pt x="666" y="210"/>
                </a:cubicBezTo>
                <a:cubicBezTo>
                  <a:pt x="676" y="214"/>
                  <a:pt x="676" y="231"/>
                  <a:pt x="676" y="242"/>
                </a:cubicBezTo>
                <a:cubicBezTo>
                  <a:pt x="676" y="274"/>
                  <a:pt x="679" y="309"/>
                  <a:pt x="666" y="338"/>
                </a:cubicBezTo>
                <a:cubicBezTo>
                  <a:pt x="659" y="353"/>
                  <a:pt x="638" y="355"/>
                  <a:pt x="623" y="359"/>
                </a:cubicBezTo>
                <a:cubicBezTo>
                  <a:pt x="588" y="369"/>
                  <a:pt x="516" y="381"/>
                  <a:pt x="516" y="381"/>
                </a:cubicBezTo>
                <a:cubicBezTo>
                  <a:pt x="349" y="373"/>
                  <a:pt x="294" y="411"/>
                  <a:pt x="218" y="295"/>
                </a:cubicBezTo>
                <a:cubicBezTo>
                  <a:pt x="226" y="221"/>
                  <a:pt x="213" y="150"/>
                  <a:pt x="292" y="125"/>
                </a:cubicBezTo>
                <a:cubicBezTo>
                  <a:pt x="335" y="95"/>
                  <a:pt x="347" y="91"/>
                  <a:pt x="399" y="103"/>
                </a:cubicBezTo>
                <a:cubicBezTo>
                  <a:pt x="395" y="132"/>
                  <a:pt x="400" y="163"/>
                  <a:pt x="388" y="189"/>
                </a:cubicBezTo>
                <a:cubicBezTo>
                  <a:pt x="359" y="253"/>
                  <a:pt x="231" y="212"/>
                  <a:pt x="207" y="210"/>
                </a:cubicBezTo>
                <a:cubicBezTo>
                  <a:pt x="219" y="139"/>
                  <a:pt x="218" y="124"/>
                  <a:pt x="282" y="93"/>
                </a:cubicBezTo>
                <a:cubicBezTo>
                  <a:pt x="314" y="96"/>
                  <a:pt x="351" y="86"/>
                  <a:pt x="378" y="103"/>
                </a:cubicBezTo>
                <a:cubicBezTo>
                  <a:pt x="391" y="111"/>
                  <a:pt x="376" y="134"/>
                  <a:pt x="367" y="146"/>
                </a:cubicBezTo>
                <a:cubicBezTo>
                  <a:pt x="360" y="155"/>
                  <a:pt x="345" y="152"/>
                  <a:pt x="335" y="157"/>
                </a:cubicBezTo>
                <a:cubicBezTo>
                  <a:pt x="324" y="163"/>
                  <a:pt x="314" y="171"/>
                  <a:pt x="303" y="178"/>
                </a:cubicBezTo>
                <a:cubicBezTo>
                  <a:pt x="248" y="170"/>
                  <a:pt x="180" y="173"/>
                  <a:pt x="228" y="93"/>
                </a:cubicBezTo>
                <a:cubicBezTo>
                  <a:pt x="246" y="63"/>
                  <a:pt x="260" y="71"/>
                  <a:pt x="292" y="61"/>
                </a:cubicBezTo>
                <a:cubicBezTo>
                  <a:pt x="314" y="54"/>
                  <a:pt x="356" y="39"/>
                  <a:pt x="356" y="39"/>
                </a:cubicBezTo>
                <a:cubicBezTo>
                  <a:pt x="397" y="0"/>
                  <a:pt x="383" y="11"/>
                  <a:pt x="335" y="82"/>
                </a:cubicBezTo>
                <a:cubicBezTo>
                  <a:pt x="307" y="124"/>
                  <a:pt x="327" y="110"/>
                  <a:pt x="282" y="125"/>
                </a:cubicBezTo>
                <a:cubicBezTo>
                  <a:pt x="278" y="139"/>
                  <a:pt x="280" y="156"/>
                  <a:pt x="271" y="167"/>
                </a:cubicBezTo>
                <a:cubicBezTo>
                  <a:pt x="264" y="176"/>
                  <a:pt x="239" y="189"/>
                  <a:pt x="239" y="178"/>
                </a:cubicBezTo>
                <a:cubicBezTo>
                  <a:pt x="239" y="163"/>
                  <a:pt x="260" y="157"/>
                  <a:pt x="271" y="146"/>
                </a:cubicBezTo>
                <a:cubicBezTo>
                  <a:pt x="286" y="104"/>
                  <a:pt x="303" y="82"/>
                  <a:pt x="335" y="50"/>
                </a:cubicBezTo>
                <a:cubicBezTo>
                  <a:pt x="349" y="104"/>
                  <a:pt x="332" y="98"/>
                  <a:pt x="378" y="82"/>
                </a:cubicBezTo>
                <a:cubicBezTo>
                  <a:pt x="504" y="94"/>
                  <a:pt x="692" y="94"/>
                  <a:pt x="346" y="114"/>
                </a:cubicBezTo>
                <a:cubicBezTo>
                  <a:pt x="418" y="139"/>
                  <a:pt x="340" y="115"/>
                  <a:pt x="474" y="135"/>
                </a:cubicBezTo>
                <a:cubicBezTo>
                  <a:pt x="523" y="143"/>
                  <a:pt x="574" y="156"/>
                  <a:pt x="623" y="167"/>
                </a:cubicBezTo>
                <a:cubicBezTo>
                  <a:pt x="609" y="171"/>
                  <a:pt x="584" y="164"/>
                  <a:pt x="580" y="178"/>
                </a:cubicBezTo>
                <a:cubicBezTo>
                  <a:pt x="576" y="193"/>
                  <a:pt x="626" y="204"/>
                  <a:pt x="612" y="210"/>
                </a:cubicBezTo>
                <a:cubicBezTo>
                  <a:pt x="569" y="227"/>
                  <a:pt x="428" y="221"/>
                  <a:pt x="474" y="221"/>
                </a:cubicBezTo>
                <a:cubicBezTo>
                  <a:pt x="574" y="221"/>
                  <a:pt x="655" y="210"/>
                  <a:pt x="751" y="199"/>
                </a:cubicBezTo>
                <a:cubicBezTo>
                  <a:pt x="623" y="169"/>
                  <a:pt x="454" y="123"/>
                  <a:pt x="356" y="221"/>
                </a:cubicBezTo>
                <a:cubicBezTo>
                  <a:pt x="370" y="228"/>
                  <a:pt x="384" y="236"/>
                  <a:pt x="399" y="242"/>
                </a:cubicBezTo>
                <a:cubicBezTo>
                  <a:pt x="409" y="246"/>
                  <a:pt x="425" y="243"/>
                  <a:pt x="431" y="253"/>
                </a:cubicBezTo>
                <a:cubicBezTo>
                  <a:pt x="489" y="354"/>
                  <a:pt x="370" y="297"/>
                  <a:pt x="516" y="338"/>
                </a:cubicBezTo>
                <a:cubicBezTo>
                  <a:pt x="605" y="334"/>
                  <a:pt x="694" y="333"/>
                  <a:pt x="783" y="327"/>
                </a:cubicBezTo>
                <a:cubicBezTo>
                  <a:pt x="798" y="326"/>
                  <a:pt x="818" y="329"/>
                  <a:pt x="826" y="317"/>
                </a:cubicBezTo>
                <a:cubicBezTo>
                  <a:pt x="832" y="308"/>
                  <a:pt x="814" y="299"/>
                  <a:pt x="804" y="295"/>
                </a:cubicBezTo>
                <a:cubicBezTo>
                  <a:pt x="787" y="288"/>
                  <a:pt x="768" y="290"/>
                  <a:pt x="751" y="285"/>
                </a:cubicBezTo>
                <a:cubicBezTo>
                  <a:pt x="729" y="279"/>
                  <a:pt x="687" y="263"/>
                  <a:pt x="687" y="263"/>
                </a:cubicBezTo>
                <a:cubicBezTo>
                  <a:pt x="630" y="265"/>
                  <a:pt x="423" y="216"/>
                  <a:pt x="388" y="317"/>
                </a:cubicBezTo>
                <a:cubicBezTo>
                  <a:pt x="392" y="338"/>
                  <a:pt x="389" y="362"/>
                  <a:pt x="399" y="381"/>
                </a:cubicBezTo>
                <a:cubicBezTo>
                  <a:pt x="405" y="392"/>
                  <a:pt x="421" y="395"/>
                  <a:pt x="431" y="402"/>
                </a:cubicBezTo>
                <a:cubicBezTo>
                  <a:pt x="485" y="440"/>
                  <a:pt x="513" y="445"/>
                  <a:pt x="580" y="455"/>
                </a:cubicBezTo>
                <a:cubicBezTo>
                  <a:pt x="712" y="443"/>
                  <a:pt x="807" y="487"/>
                  <a:pt x="847" y="370"/>
                </a:cubicBezTo>
                <a:cubicBezTo>
                  <a:pt x="836" y="352"/>
                  <a:pt x="833" y="328"/>
                  <a:pt x="815" y="317"/>
                </a:cubicBezTo>
                <a:cubicBezTo>
                  <a:pt x="740" y="272"/>
                  <a:pt x="586" y="243"/>
                  <a:pt x="495" y="231"/>
                </a:cubicBezTo>
                <a:cubicBezTo>
                  <a:pt x="449" y="235"/>
                  <a:pt x="396" y="219"/>
                  <a:pt x="356" y="242"/>
                </a:cubicBezTo>
                <a:cubicBezTo>
                  <a:pt x="337" y="253"/>
                  <a:pt x="358" y="286"/>
                  <a:pt x="367" y="306"/>
                </a:cubicBezTo>
                <a:cubicBezTo>
                  <a:pt x="383" y="342"/>
                  <a:pt x="410" y="341"/>
                  <a:pt x="442" y="349"/>
                </a:cubicBezTo>
                <a:cubicBezTo>
                  <a:pt x="547" y="343"/>
                  <a:pt x="641" y="377"/>
                  <a:pt x="687" y="285"/>
                </a:cubicBezTo>
                <a:cubicBezTo>
                  <a:pt x="657" y="207"/>
                  <a:pt x="659" y="226"/>
                  <a:pt x="580" y="210"/>
                </a:cubicBezTo>
                <a:cubicBezTo>
                  <a:pt x="498" y="224"/>
                  <a:pt x="493" y="225"/>
                  <a:pt x="474" y="306"/>
                </a:cubicBezTo>
                <a:cubicBezTo>
                  <a:pt x="477" y="334"/>
                  <a:pt x="471" y="365"/>
                  <a:pt x="484" y="391"/>
                </a:cubicBezTo>
                <a:cubicBezTo>
                  <a:pt x="491" y="405"/>
                  <a:pt x="511" y="412"/>
                  <a:pt x="527" y="413"/>
                </a:cubicBezTo>
                <a:cubicBezTo>
                  <a:pt x="595" y="416"/>
                  <a:pt x="662" y="406"/>
                  <a:pt x="730" y="402"/>
                </a:cubicBezTo>
                <a:cubicBezTo>
                  <a:pt x="706" y="307"/>
                  <a:pt x="626" y="315"/>
                  <a:pt x="538" y="306"/>
                </a:cubicBezTo>
                <a:cubicBezTo>
                  <a:pt x="517" y="299"/>
                  <a:pt x="495" y="292"/>
                  <a:pt x="474" y="285"/>
                </a:cubicBezTo>
                <a:cubicBezTo>
                  <a:pt x="433" y="272"/>
                  <a:pt x="303" y="295"/>
                  <a:pt x="346" y="295"/>
                </a:cubicBezTo>
                <a:cubicBezTo>
                  <a:pt x="545" y="295"/>
                  <a:pt x="538" y="348"/>
                  <a:pt x="538" y="26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71760" y="6365880"/>
            <a:ext cx="1541520" cy="466560"/>
          </a:xfrm>
          <a:custGeom>
            <a:avLst/>
            <a:gdLst/>
            <a:ahLst/>
            <a:rect l="l" t="t" r="r" b="b"/>
            <a:pathLst>
              <a:path w="971" h="294">
                <a:moveTo>
                  <a:pt x="9" y="65"/>
                </a:moveTo>
                <a:cubicBezTo>
                  <a:pt x="20" y="72"/>
                  <a:pt x="31" y="78"/>
                  <a:pt x="41" y="86"/>
                </a:cubicBezTo>
                <a:cubicBezTo>
                  <a:pt x="49" y="92"/>
                  <a:pt x="66" y="97"/>
                  <a:pt x="63" y="107"/>
                </a:cubicBezTo>
                <a:cubicBezTo>
                  <a:pt x="60" y="118"/>
                  <a:pt x="42" y="114"/>
                  <a:pt x="31" y="118"/>
                </a:cubicBezTo>
                <a:cubicBezTo>
                  <a:pt x="0" y="208"/>
                  <a:pt x="47" y="184"/>
                  <a:pt x="137" y="193"/>
                </a:cubicBezTo>
                <a:cubicBezTo>
                  <a:pt x="173" y="204"/>
                  <a:pt x="209" y="213"/>
                  <a:pt x="244" y="225"/>
                </a:cubicBezTo>
                <a:cubicBezTo>
                  <a:pt x="284" y="287"/>
                  <a:pt x="326" y="266"/>
                  <a:pt x="393" y="289"/>
                </a:cubicBezTo>
                <a:cubicBezTo>
                  <a:pt x="514" y="285"/>
                  <a:pt x="635" y="285"/>
                  <a:pt x="756" y="278"/>
                </a:cubicBezTo>
                <a:cubicBezTo>
                  <a:pt x="791" y="276"/>
                  <a:pt x="828" y="244"/>
                  <a:pt x="863" y="235"/>
                </a:cubicBezTo>
                <a:cubicBezTo>
                  <a:pt x="934" y="188"/>
                  <a:pt x="918" y="161"/>
                  <a:pt x="927" y="65"/>
                </a:cubicBezTo>
                <a:cubicBezTo>
                  <a:pt x="971" y="132"/>
                  <a:pt x="940" y="128"/>
                  <a:pt x="873" y="150"/>
                </a:cubicBezTo>
                <a:cubicBezTo>
                  <a:pt x="850" y="157"/>
                  <a:pt x="832" y="174"/>
                  <a:pt x="809" y="182"/>
                </a:cubicBezTo>
                <a:cubicBezTo>
                  <a:pt x="781" y="178"/>
                  <a:pt x="741" y="194"/>
                  <a:pt x="724" y="171"/>
                </a:cubicBezTo>
                <a:cubicBezTo>
                  <a:pt x="716" y="160"/>
                  <a:pt x="747" y="38"/>
                  <a:pt x="767" y="22"/>
                </a:cubicBezTo>
                <a:cubicBezTo>
                  <a:pt x="778" y="13"/>
                  <a:pt x="795" y="15"/>
                  <a:pt x="809" y="11"/>
                </a:cubicBezTo>
                <a:cubicBezTo>
                  <a:pt x="816" y="22"/>
                  <a:pt x="830" y="30"/>
                  <a:pt x="831" y="43"/>
                </a:cubicBezTo>
                <a:cubicBezTo>
                  <a:pt x="844" y="190"/>
                  <a:pt x="807" y="138"/>
                  <a:pt x="671" y="129"/>
                </a:cubicBezTo>
                <a:cubicBezTo>
                  <a:pt x="674" y="104"/>
                  <a:pt x="668" y="75"/>
                  <a:pt x="681" y="54"/>
                </a:cubicBezTo>
                <a:cubicBezTo>
                  <a:pt x="689" y="41"/>
                  <a:pt x="712" y="51"/>
                  <a:pt x="724" y="43"/>
                </a:cubicBezTo>
                <a:cubicBezTo>
                  <a:pt x="735" y="36"/>
                  <a:pt x="738" y="22"/>
                  <a:pt x="745" y="11"/>
                </a:cubicBezTo>
                <a:cubicBezTo>
                  <a:pt x="774" y="15"/>
                  <a:pt x="805" y="10"/>
                  <a:pt x="831" y="22"/>
                </a:cubicBezTo>
                <a:cubicBezTo>
                  <a:pt x="841" y="27"/>
                  <a:pt x="841" y="43"/>
                  <a:pt x="841" y="54"/>
                </a:cubicBezTo>
                <a:cubicBezTo>
                  <a:pt x="841" y="103"/>
                  <a:pt x="817" y="115"/>
                  <a:pt x="777" y="129"/>
                </a:cubicBezTo>
                <a:cubicBezTo>
                  <a:pt x="712" y="107"/>
                  <a:pt x="736" y="77"/>
                  <a:pt x="745" y="11"/>
                </a:cubicBezTo>
                <a:cubicBezTo>
                  <a:pt x="774" y="15"/>
                  <a:pt x="812" y="0"/>
                  <a:pt x="831" y="22"/>
                </a:cubicBezTo>
                <a:cubicBezTo>
                  <a:pt x="846" y="39"/>
                  <a:pt x="819" y="106"/>
                  <a:pt x="809" y="86"/>
                </a:cubicBezTo>
                <a:cubicBezTo>
                  <a:pt x="796" y="61"/>
                  <a:pt x="816" y="29"/>
                  <a:pt x="820" y="1"/>
                </a:cubicBezTo>
                <a:cubicBezTo>
                  <a:pt x="841" y="4"/>
                  <a:pt x="865" y="0"/>
                  <a:pt x="884" y="11"/>
                </a:cubicBezTo>
                <a:cubicBezTo>
                  <a:pt x="932" y="38"/>
                  <a:pt x="853" y="78"/>
                  <a:pt x="841" y="86"/>
                </a:cubicBezTo>
                <a:cubicBezTo>
                  <a:pt x="882" y="205"/>
                  <a:pt x="796" y="164"/>
                  <a:pt x="681" y="171"/>
                </a:cubicBezTo>
                <a:cubicBezTo>
                  <a:pt x="630" y="155"/>
                  <a:pt x="644" y="168"/>
                  <a:pt x="692" y="139"/>
                </a:cubicBezTo>
                <a:cubicBezTo>
                  <a:pt x="714" y="126"/>
                  <a:pt x="779" y="86"/>
                  <a:pt x="756" y="97"/>
                </a:cubicBezTo>
                <a:cubicBezTo>
                  <a:pt x="742" y="104"/>
                  <a:pt x="697" y="118"/>
                  <a:pt x="713" y="118"/>
                </a:cubicBezTo>
                <a:cubicBezTo>
                  <a:pt x="739" y="118"/>
                  <a:pt x="763" y="104"/>
                  <a:pt x="788" y="97"/>
                </a:cubicBezTo>
                <a:cubicBezTo>
                  <a:pt x="799" y="94"/>
                  <a:pt x="830" y="81"/>
                  <a:pt x="820" y="86"/>
                </a:cubicBezTo>
                <a:cubicBezTo>
                  <a:pt x="777" y="106"/>
                  <a:pt x="767" y="107"/>
                  <a:pt x="724" y="118"/>
                </a:cubicBezTo>
                <a:cubicBezTo>
                  <a:pt x="625" y="97"/>
                  <a:pt x="682" y="116"/>
                  <a:pt x="724" y="97"/>
                </a:cubicBezTo>
                <a:cubicBezTo>
                  <a:pt x="747" y="86"/>
                  <a:pt x="764" y="62"/>
                  <a:pt x="788" y="54"/>
                </a:cubicBezTo>
                <a:cubicBezTo>
                  <a:pt x="799" y="50"/>
                  <a:pt x="809" y="47"/>
                  <a:pt x="820" y="43"/>
                </a:cubicBezTo>
                <a:cubicBezTo>
                  <a:pt x="806" y="40"/>
                  <a:pt x="769" y="45"/>
                  <a:pt x="777" y="33"/>
                </a:cubicBezTo>
                <a:cubicBezTo>
                  <a:pt x="779" y="29"/>
                  <a:pt x="868" y="1"/>
                  <a:pt x="884" y="1"/>
                </a:cubicBezTo>
                <a:cubicBezTo>
                  <a:pt x="895" y="1"/>
                  <a:pt x="862" y="7"/>
                  <a:pt x="852" y="11"/>
                </a:cubicBezTo>
                <a:cubicBezTo>
                  <a:pt x="837" y="17"/>
                  <a:pt x="823" y="26"/>
                  <a:pt x="809" y="33"/>
                </a:cubicBezTo>
                <a:cubicBezTo>
                  <a:pt x="782" y="74"/>
                  <a:pt x="757" y="85"/>
                  <a:pt x="713" y="107"/>
                </a:cubicBezTo>
                <a:cubicBezTo>
                  <a:pt x="756" y="111"/>
                  <a:pt x="808" y="90"/>
                  <a:pt x="841" y="118"/>
                </a:cubicBezTo>
                <a:cubicBezTo>
                  <a:pt x="861" y="135"/>
                  <a:pt x="801" y="153"/>
                  <a:pt x="777" y="161"/>
                </a:cubicBezTo>
                <a:cubicBezTo>
                  <a:pt x="756" y="168"/>
                  <a:pt x="734" y="175"/>
                  <a:pt x="713" y="182"/>
                </a:cubicBezTo>
                <a:cubicBezTo>
                  <a:pt x="702" y="186"/>
                  <a:pt x="681" y="193"/>
                  <a:pt x="681" y="193"/>
                </a:cubicBezTo>
                <a:cubicBezTo>
                  <a:pt x="688" y="182"/>
                  <a:pt x="693" y="169"/>
                  <a:pt x="703" y="161"/>
                </a:cubicBezTo>
                <a:cubicBezTo>
                  <a:pt x="712" y="154"/>
                  <a:pt x="735" y="139"/>
                  <a:pt x="735" y="150"/>
                </a:cubicBezTo>
                <a:cubicBezTo>
                  <a:pt x="735" y="163"/>
                  <a:pt x="714" y="164"/>
                  <a:pt x="703" y="171"/>
                </a:cubicBezTo>
                <a:cubicBezTo>
                  <a:pt x="581" y="148"/>
                  <a:pt x="706" y="147"/>
                  <a:pt x="745" y="139"/>
                </a:cubicBezTo>
                <a:cubicBezTo>
                  <a:pt x="759" y="143"/>
                  <a:pt x="794" y="137"/>
                  <a:pt x="788" y="150"/>
                </a:cubicBezTo>
                <a:cubicBezTo>
                  <a:pt x="781" y="166"/>
                  <a:pt x="735" y="161"/>
                  <a:pt x="735" y="161"/>
                </a:cubicBezTo>
                <a:cubicBezTo>
                  <a:pt x="746" y="164"/>
                  <a:pt x="762" y="161"/>
                  <a:pt x="767" y="171"/>
                </a:cubicBezTo>
                <a:cubicBezTo>
                  <a:pt x="772" y="181"/>
                  <a:pt x="766" y="197"/>
                  <a:pt x="756" y="203"/>
                </a:cubicBezTo>
                <a:cubicBezTo>
                  <a:pt x="737" y="214"/>
                  <a:pt x="713" y="210"/>
                  <a:pt x="692" y="214"/>
                </a:cubicBezTo>
                <a:cubicBezTo>
                  <a:pt x="678" y="217"/>
                  <a:pt x="663" y="221"/>
                  <a:pt x="649" y="225"/>
                </a:cubicBezTo>
                <a:cubicBezTo>
                  <a:pt x="630" y="230"/>
                  <a:pt x="684" y="208"/>
                  <a:pt x="703" y="203"/>
                </a:cubicBezTo>
                <a:cubicBezTo>
                  <a:pt x="727" y="197"/>
                  <a:pt x="752" y="196"/>
                  <a:pt x="777" y="193"/>
                </a:cubicBezTo>
                <a:cubicBezTo>
                  <a:pt x="788" y="189"/>
                  <a:pt x="820" y="182"/>
                  <a:pt x="809" y="182"/>
                </a:cubicBezTo>
                <a:cubicBezTo>
                  <a:pt x="795" y="182"/>
                  <a:pt x="781" y="190"/>
                  <a:pt x="767" y="193"/>
                </a:cubicBezTo>
                <a:cubicBezTo>
                  <a:pt x="623" y="219"/>
                  <a:pt x="748" y="189"/>
                  <a:pt x="649" y="214"/>
                </a:cubicBezTo>
                <a:cubicBezTo>
                  <a:pt x="667" y="218"/>
                  <a:pt x="685" y="227"/>
                  <a:pt x="703" y="225"/>
                </a:cubicBezTo>
                <a:cubicBezTo>
                  <a:pt x="716" y="223"/>
                  <a:pt x="722" y="203"/>
                  <a:pt x="735" y="203"/>
                </a:cubicBezTo>
                <a:cubicBezTo>
                  <a:pt x="758" y="203"/>
                  <a:pt x="658" y="246"/>
                  <a:pt x="681" y="246"/>
                </a:cubicBezTo>
                <a:cubicBezTo>
                  <a:pt x="703" y="246"/>
                  <a:pt x="724" y="232"/>
                  <a:pt x="745" y="225"/>
                </a:cubicBezTo>
                <a:cubicBezTo>
                  <a:pt x="772" y="216"/>
                  <a:pt x="802" y="218"/>
                  <a:pt x="831" y="214"/>
                </a:cubicBezTo>
                <a:cubicBezTo>
                  <a:pt x="834" y="203"/>
                  <a:pt x="833" y="190"/>
                  <a:pt x="841" y="182"/>
                </a:cubicBezTo>
                <a:cubicBezTo>
                  <a:pt x="849" y="174"/>
                  <a:pt x="873" y="160"/>
                  <a:pt x="873" y="171"/>
                </a:cubicBezTo>
                <a:cubicBezTo>
                  <a:pt x="873" y="186"/>
                  <a:pt x="818" y="200"/>
                  <a:pt x="809" y="203"/>
                </a:cubicBezTo>
                <a:cubicBezTo>
                  <a:pt x="781" y="200"/>
                  <a:pt x="724" y="222"/>
                  <a:pt x="724" y="193"/>
                </a:cubicBezTo>
                <a:cubicBezTo>
                  <a:pt x="724" y="164"/>
                  <a:pt x="809" y="171"/>
                  <a:pt x="809" y="171"/>
                </a:cubicBezTo>
                <a:cubicBezTo>
                  <a:pt x="816" y="165"/>
                  <a:pt x="858" y="112"/>
                  <a:pt x="873" y="161"/>
                </a:cubicBezTo>
                <a:cubicBezTo>
                  <a:pt x="877" y="173"/>
                  <a:pt x="853" y="178"/>
                  <a:pt x="841" y="182"/>
                </a:cubicBezTo>
                <a:cubicBezTo>
                  <a:pt x="824" y="188"/>
                  <a:pt x="806" y="191"/>
                  <a:pt x="788" y="193"/>
                </a:cubicBezTo>
                <a:cubicBezTo>
                  <a:pt x="749" y="198"/>
                  <a:pt x="710" y="200"/>
                  <a:pt x="671" y="203"/>
                </a:cubicBezTo>
                <a:cubicBezTo>
                  <a:pt x="646" y="200"/>
                  <a:pt x="619" y="204"/>
                  <a:pt x="596" y="193"/>
                </a:cubicBezTo>
                <a:cubicBezTo>
                  <a:pt x="586" y="188"/>
                  <a:pt x="585" y="172"/>
                  <a:pt x="585" y="161"/>
                </a:cubicBezTo>
                <a:cubicBezTo>
                  <a:pt x="585" y="111"/>
                  <a:pt x="634" y="96"/>
                  <a:pt x="671" y="86"/>
                </a:cubicBezTo>
                <a:cubicBezTo>
                  <a:pt x="682" y="79"/>
                  <a:pt x="690" y="65"/>
                  <a:pt x="703" y="65"/>
                </a:cubicBezTo>
                <a:cubicBezTo>
                  <a:pt x="713" y="65"/>
                  <a:pt x="689" y="80"/>
                  <a:pt x="681" y="86"/>
                </a:cubicBezTo>
                <a:cubicBezTo>
                  <a:pt x="668" y="95"/>
                  <a:pt x="653" y="101"/>
                  <a:pt x="639" y="107"/>
                </a:cubicBezTo>
                <a:cubicBezTo>
                  <a:pt x="591" y="128"/>
                  <a:pt x="562" y="123"/>
                  <a:pt x="500" y="129"/>
                </a:cubicBezTo>
                <a:cubicBezTo>
                  <a:pt x="511" y="122"/>
                  <a:pt x="543" y="113"/>
                  <a:pt x="532" y="107"/>
                </a:cubicBezTo>
                <a:cubicBezTo>
                  <a:pt x="516" y="99"/>
                  <a:pt x="495" y="126"/>
                  <a:pt x="479" y="118"/>
                </a:cubicBezTo>
                <a:cubicBezTo>
                  <a:pt x="467" y="113"/>
                  <a:pt x="500" y="103"/>
                  <a:pt x="511" y="97"/>
                </a:cubicBezTo>
                <a:cubicBezTo>
                  <a:pt x="565" y="70"/>
                  <a:pt x="566" y="75"/>
                  <a:pt x="628" y="65"/>
                </a:cubicBezTo>
                <a:cubicBezTo>
                  <a:pt x="618" y="70"/>
                  <a:pt x="540" y="109"/>
                  <a:pt x="532" y="107"/>
                </a:cubicBezTo>
                <a:cubicBezTo>
                  <a:pt x="521" y="104"/>
                  <a:pt x="539" y="86"/>
                  <a:pt x="543" y="75"/>
                </a:cubicBezTo>
                <a:cubicBezTo>
                  <a:pt x="561" y="79"/>
                  <a:pt x="613" y="80"/>
                  <a:pt x="596" y="86"/>
                </a:cubicBezTo>
                <a:cubicBezTo>
                  <a:pt x="559" y="99"/>
                  <a:pt x="517" y="105"/>
                  <a:pt x="479" y="97"/>
                </a:cubicBezTo>
                <a:cubicBezTo>
                  <a:pt x="468" y="95"/>
                  <a:pt x="486" y="76"/>
                  <a:pt x="489" y="65"/>
                </a:cubicBezTo>
                <a:cubicBezTo>
                  <a:pt x="528" y="68"/>
                  <a:pt x="568" y="75"/>
                  <a:pt x="607" y="75"/>
                </a:cubicBezTo>
                <a:cubicBezTo>
                  <a:pt x="621" y="75"/>
                  <a:pt x="663" y="65"/>
                  <a:pt x="649" y="65"/>
                </a:cubicBezTo>
                <a:cubicBezTo>
                  <a:pt x="583" y="65"/>
                  <a:pt x="508" y="104"/>
                  <a:pt x="447" y="129"/>
                </a:cubicBezTo>
                <a:cubicBezTo>
                  <a:pt x="458" y="132"/>
                  <a:pt x="468" y="139"/>
                  <a:pt x="479" y="139"/>
                </a:cubicBezTo>
                <a:cubicBezTo>
                  <a:pt x="497" y="139"/>
                  <a:pt x="545" y="116"/>
                  <a:pt x="532" y="129"/>
                </a:cubicBezTo>
                <a:cubicBezTo>
                  <a:pt x="516" y="145"/>
                  <a:pt x="489" y="143"/>
                  <a:pt x="468" y="150"/>
                </a:cubicBezTo>
                <a:cubicBezTo>
                  <a:pt x="451" y="156"/>
                  <a:pt x="503" y="143"/>
                  <a:pt x="521" y="139"/>
                </a:cubicBezTo>
                <a:cubicBezTo>
                  <a:pt x="532" y="136"/>
                  <a:pt x="542" y="132"/>
                  <a:pt x="553" y="129"/>
                </a:cubicBezTo>
                <a:cubicBezTo>
                  <a:pt x="564" y="132"/>
                  <a:pt x="595" y="134"/>
                  <a:pt x="585" y="139"/>
                </a:cubicBezTo>
                <a:cubicBezTo>
                  <a:pt x="563" y="150"/>
                  <a:pt x="535" y="145"/>
                  <a:pt x="511" y="150"/>
                </a:cubicBezTo>
                <a:cubicBezTo>
                  <a:pt x="500" y="152"/>
                  <a:pt x="490" y="157"/>
                  <a:pt x="479" y="161"/>
                </a:cubicBezTo>
                <a:cubicBezTo>
                  <a:pt x="465" y="166"/>
                  <a:pt x="421" y="171"/>
                  <a:pt x="436" y="171"/>
                </a:cubicBezTo>
                <a:cubicBezTo>
                  <a:pt x="465" y="171"/>
                  <a:pt x="493" y="164"/>
                  <a:pt x="521" y="161"/>
                </a:cubicBezTo>
                <a:cubicBezTo>
                  <a:pt x="599" y="185"/>
                  <a:pt x="527" y="158"/>
                  <a:pt x="447" y="182"/>
                </a:cubicBezTo>
                <a:cubicBezTo>
                  <a:pt x="436" y="185"/>
                  <a:pt x="468" y="190"/>
                  <a:pt x="479" y="193"/>
                </a:cubicBezTo>
                <a:cubicBezTo>
                  <a:pt x="496" y="197"/>
                  <a:pt x="514" y="200"/>
                  <a:pt x="532" y="203"/>
                </a:cubicBezTo>
                <a:cubicBezTo>
                  <a:pt x="574" y="247"/>
                  <a:pt x="560" y="221"/>
                  <a:pt x="468" y="235"/>
                </a:cubicBezTo>
                <a:cubicBezTo>
                  <a:pt x="450" y="238"/>
                  <a:pt x="432" y="241"/>
                  <a:pt x="415" y="246"/>
                </a:cubicBezTo>
                <a:cubicBezTo>
                  <a:pt x="404" y="249"/>
                  <a:pt x="372" y="257"/>
                  <a:pt x="383" y="257"/>
                </a:cubicBezTo>
                <a:cubicBezTo>
                  <a:pt x="487" y="257"/>
                  <a:pt x="451" y="238"/>
                  <a:pt x="553" y="225"/>
                </a:cubicBezTo>
                <a:cubicBezTo>
                  <a:pt x="610" y="218"/>
                  <a:pt x="667" y="214"/>
                  <a:pt x="724" y="214"/>
                </a:cubicBezTo>
                <a:cubicBezTo>
                  <a:pt x="767" y="214"/>
                  <a:pt x="639" y="221"/>
                  <a:pt x="596" y="225"/>
                </a:cubicBezTo>
                <a:cubicBezTo>
                  <a:pt x="491" y="258"/>
                  <a:pt x="712" y="220"/>
                  <a:pt x="553" y="235"/>
                </a:cubicBezTo>
                <a:cubicBezTo>
                  <a:pt x="496" y="240"/>
                  <a:pt x="326" y="246"/>
                  <a:pt x="383" y="246"/>
                </a:cubicBezTo>
                <a:cubicBezTo>
                  <a:pt x="458" y="246"/>
                  <a:pt x="532" y="239"/>
                  <a:pt x="607" y="235"/>
                </a:cubicBezTo>
                <a:cubicBezTo>
                  <a:pt x="621" y="232"/>
                  <a:pt x="649" y="211"/>
                  <a:pt x="649" y="225"/>
                </a:cubicBezTo>
                <a:cubicBezTo>
                  <a:pt x="649" y="241"/>
                  <a:pt x="621" y="238"/>
                  <a:pt x="607" y="246"/>
                </a:cubicBezTo>
                <a:cubicBezTo>
                  <a:pt x="596" y="252"/>
                  <a:pt x="563" y="272"/>
                  <a:pt x="575" y="267"/>
                </a:cubicBezTo>
                <a:cubicBezTo>
                  <a:pt x="604" y="255"/>
                  <a:pt x="660" y="225"/>
                  <a:pt x="660" y="225"/>
                </a:cubicBezTo>
                <a:cubicBezTo>
                  <a:pt x="667" y="218"/>
                  <a:pt x="681" y="193"/>
                  <a:pt x="681" y="203"/>
                </a:cubicBezTo>
                <a:cubicBezTo>
                  <a:pt x="681" y="216"/>
                  <a:pt x="670" y="227"/>
                  <a:pt x="660" y="235"/>
                </a:cubicBezTo>
                <a:cubicBezTo>
                  <a:pt x="651" y="242"/>
                  <a:pt x="639" y="242"/>
                  <a:pt x="628" y="246"/>
                </a:cubicBezTo>
                <a:cubicBezTo>
                  <a:pt x="668" y="185"/>
                  <a:pt x="679" y="193"/>
                  <a:pt x="756" y="203"/>
                </a:cubicBezTo>
                <a:cubicBezTo>
                  <a:pt x="766" y="231"/>
                  <a:pt x="783" y="246"/>
                  <a:pt x="735" y="246"/>
                </a:cubicBezTo>
                <a:cubicBezTo>
                  <a:pt x="639" y="246"/>
                  <a:pt x="543" y="239"/>
                  <a:pt x="447" y="235"/>
                </a:cubicBezTo>
                <a:cubicBezTo>
                  <a:pt x="458" y="224"/>
                  <a:pt x="465" y="210"/>
                  <a:pt x="479" y="203"/>
                </a:cubicBezTo>
                <a:cubicBezTo>
                  <a:pt x="495" y="195"/>
                  <a:pt x="514" y="193"/>
                  <a:pt x="532" y="193"/>
                </a:cubicBezTo>
                <a:cubicBezTo>
                  <a:pt x="568" y="193"/>
                  <a:pt x="675" y="203"/>
                  <a:pt x="639" y="203"/>
                </a:cubicBezTo>
                <a:cubicBezTo>
                  <a:pt x="564" y="203"/>
                  <a:pt x="490" y="196"/>
                  <a:pt x="415" y="193"/>
                </a:cubicBezTo>
                <a:cubicBezTo>
                  <a:pt x="337" y="115"/>
                  <a:pt x="26" y="195"/>
                  <a:pt x="223" y="150"/>
                </a:cubicBezTo>
                <a:cubicBezTo>
                  <a:pt x="234" y="147"/>
                  <a:pt x="244" y="143"/>
                  <a:pt x="255" y="139"/>
                </a:cubicBezTo>
                <a:cubicBezTo>
                  <a:pt x="266" y="128"/>
                  <a:pt x="274" y="115"/>
                  <a:pt x="287" y="107"/>
                </a:cubicBezTo>
                <a:cubicBezTo>
                  <a:pt x="365" y="56"/>
                  <a:pt x="278" y="140"/>
                  <a:pt x="340" y="75"/>
                </a:cubicBezTo>
                <a:cubicBezTo>
                  <a:pt x="432" y="107"/>
                  <a:pt x="586" y="88"/>
                  <a:pt x="308" y="107"/>
                </a:cubicBezTo>
                <a:cubicBezTo>
                  <a:pt x="322" y="114"/>
                  <a:pt x="336" y="123"/>
                  <a:pt x="351" y="129"/>
                </a:cubicBezTo>
                <a:cubicBezTo>
                  <a:pt x="361" y="133"/>
                  <a:pt x="380" y="128"/>
                  <a:pt x="383" y="139"/>
                </a:cubicBezTo>
                <a:cubicBezTo>
                  <a:pt x="386" y="149"/>
                  <a:pt x="368" y="154"/>
                  <a:pt x="361" y="161"/>
                </a:cubicBezTo>
                <a:cubicBezTo>
                  <a:pt x="294" y="147"/>
                  <a:pt x="61" y="153"/>
                  <a:pt x="287" y="129"/>
                </a:cubicBezTo>
                <a:cubicBezTo>
                  <a:pt x="298" y="122"/>
                  <a:pt x="331" y="111"/>
                  <a:pt x="319" y="107"/>
                </a:cubicBezTo>
                <a:cubicBezTo>
                  <a:pt x="278" y="93"/>
                  <a:pt x="153" y="116"/>
                  <a:pt x="191" y="97"/>
                </a:cubicBezTo>
                <a:cubicBezTo>
                  <a:pt x="242" y="72"/>
                  <a:pt x="304" y="90"/>
                  <a:pt x="361" y="86"/>
                </a:cubicBezTo>
                <a:cubicBezTo>
                  <a:pt x="499" y="38"/>
                  <a:pt x="127" y="123"/>
                  <a:pt x="265" y="75"/>
                </a:cubicBezTo>
                <a:cubicBezTo>
                  <a:pt x="276" y="82"/>
                  <a:pt x="285" y="91"/>
                  <a:pt x="297" y="97"/>
                </a:cubicBezTo>
                <a:cubicBezTo>
                  <a:pt x="307" y="102"/>
                  <a:pt x="332" y="96"/>
                  <a:pt x="329" y="107"/>
                </a:cubicBezTo>
                <a:cubicBezTo>
                  <a:pt x="322" y="131"/>
                  <a:pt x="229" y="138"/>
                  <a:pt x="223" y="139"/>
                </a:cubicBezTo>
                <a:cubicBezTo>
                  <a:pt x="284" y="152"/>
                  <a:pt x="464" y="149"/>
                  <a:pt x="276" y="171"/>
                </a:cubicBezTo>
                <a:cubicBezTo>
                  <a:pt x="302" y="246"/>
                  <a:pt x="350" y="262"/>
                  <a:pt x="425" y="278"/>
                </a:cubicBezTo>
                <a:cubicBezTo>
                  <a:pt x="414" y="271"/>
                  <a:pt x="394" y="270"/>
                  <a:pt x="393" y="257"/>
                </a:cubicBezTo>
                <a:cubicBezTo>
                  <a:pt x="390" y="235"/>
                  <a:pt x="415" y="193"/>
                  <a:pt x="415" y="193"/>
                </a:cubicBezTo>
                <a:cubicBezTo>
                  <a:pt x="374" y="165"/>
                  <a:pt x="336" y="160"/>
                  <a:pt x="287" y="150"/>
                </a:cubicBezTo>
                <a:cubicBezTo>
                  <a:pt x="343" y="188"/>
                  <a:pt x="364" y="198"/>
                  <a:pt x="425" y="214"/>
                </a:cubicBezTo>
                <a:cubicBezTo>
                  <a:pt x="393" y="193"/>
                  <a:pt x="375" y="153"/>
                  <a:pt x="340" y="139"/>
                </a:cubicBezTo>
                <a:cubicBezTo>
                  <a:pt x="221" y="92"/>
                  <a:pt x="216" y="105"/>
                  <a:pt x="41" y="97"/>
                </a:cubicBezTo>
                <a:cubicBezTo>
                  <a:pt x="45" y="83"/>
                  <a:pt x="39" y="61"/>
                  <a:pt x="52" y="54"/>
                </a:cubicBezTo>
                <a:cubicBezTo>
                  <a:pt x="63" y="48"/>
                  <a:pt x="79" y="63"/>
                  <a:pt x="84" y="75"/>
                </a:cubicBezTo>
                <a:cubicBezTo>
                  <a:pt x="88" y="85"/>
                  <a:pt x="77" y="96"/>
                  <a:pt x="73" y="107"/>
                </a:cubicBezTo>
                <a:cubicBezTo>
                  <a:pt x="77" y="118"/>
                  <a:pt x="74" y="144"/>
                  <a:pt x="84" y="139"/>
                </a:cubicBezTo>
                <a:cubicBezTo>
                  <a:pt x="97" y="133"/>
                  <a:pt x="97" y="111"/>
                  <a:pt x="95" y="97"/>
                </a:cubicBezTo>
                <a:cubicBezTo>
                  <a:pt x="89" y="51"/>
                  <a:pt x="73" y="54"/>
                  <a:pt x="41" y="43"/>
                </a:cubicBezTo>
                <a:cubicBezTo>
                  <a:pt x="35" y="62"/>
                  <a:pt x="17" y="100"/>
                  <a:pt x="41" y="118"/>
                </a:cubicBezTo>
                <a:cubicBezTo>
                  <a:pt x="50" y="125"/>
                  <a:pt x="62" y="111"/>
                  <a:pt x="73" y="107"/>
                </a:cubicBezTo>
                <a:cubicBezTo>
                  <a:pt x="66" y="82"/>
                  <a:pt x="64" y="55"/>
                  <a:pt x="52" y="33"/>
                </a:cubicBezTo>
                <a:cubicBezTo>
                  <a:pt x="46" y="22"/>
                  <a:pt x="33" y="8"/>
                  <a:pt x="20" y="11"/>
                </a:cubicBezTo>
                <a:cubicBezTo>
                  <a:pt x="9" y="14"/>
                  <a:pt x="13" y="32"/>
                  <a:pt x="9" y="43"/>
                </a:cubicBezTo>
                <a:cubicBezTo>
                  <a:pt x="45" y="95"/>
                  <a:pt x="39" y="113"/>
                  <a:pt x="105" y="97"/>
                </a:cubicBezTo>
                <a:cubicBezTo>
                  <a:pt x="234" y="127"/>
                  <a:pt x="335" y="123"/>
                  <a:pt x="479" y="129"/>
                </a:cubicBezTo>
                <a:cubicBezTo>
                  <a:pt x="583" y="174"/>
                  <a:pt x="688" y="193"/>
                  <a:pt x="799" y="214"/>
                </a:cubicBezTo>
                <a:cubicBezTo>
                  <a:pt x="841" y="222"/>
                  <a:pt x="927" y="235"/>
                  <a:pt x="927" y="235"/>
                </a:cubicBezTo>
                <a:cubicBezTo>
                  <a:pt x="938" y="239"/>
                  <a:pt x="959" y="235"/>
                  <a:pt x="959" y="246"/>
                </a:cubicBezTo>
                <a:cubicBezTo>
                  <a:pt x="959" y="257"/>
                  <a:pt x="938" y="257"/>
                  <a:pt x="927" y="257"/>
                </a:cubicBezTo>
                <a:cubicBezTo>
                  <a:pt x="842" y="257"/>
                  <a:pt x="756" y="250"/>
                  <a:pt x="671" y="246"/>
                </a:cubicBezTo>
                <a:cubicBezTo>
                  <a:pt x="313" y="277"/>
                  <a:pt x="813" y="261"/>
                  <a:pt x="873" y="257"/>
                </a:cubicBezTo>
                <a:cubicBezTo>
                  <a:pt x="901" y="176"/>
                  <a:pt x="864" y="276"/>
                  <a:pt x="905" y="193"/>
                </a:cubicBezTo>
                <a:cubicBezTo>
                  <a:pt x="921" y="160"/>
                  <a:pt x="926" y="121"/>
                  <a:pt x="937" y="86"/>
                </a:cubicBezTo>
                <a:cubicBezTo>
                  <a:pt x="941" y="111"/>
                  <a:pt x="943" y="136"/>
                  <a:pt x="948" y="161"/>
                </a:cubicBezTo>
                <a:cubicBezTo>
                  <a:pt x="950" y="172"/>
                  <a:pt x="961" y="182"/>
                  <a:pt x="959" y="193"/>
                </a:cubicBezTo>
                <a:cubicBezTo>
                  <a:pt x="957" y="202"/>
                  <a:pt x="909" y="235"/>
                  <a:pt x="905" y="235"/>
                </a:cubicBezTo>
                <a:cubicBezTo>
                  <a:pt x="813" y="245"/>
                  <a:pt x="720" y="242"/>
                  <a:pt x="628" y="246"/>
                </a:cubicBezTo>
                <a:cubicBezTo>
                  <a:pt x="592" y="270"/>
                  <a:pt x="563" y="278"/>
                  <a:pt x="521" y="289"/>
                </a:cubicBezTo>
                <a:cubicBezTo>
                  <a:pt x="400" y="285"/>
                  <a:pt x="279" y="294"/>
                  <a:pt x="159" y="278"/>
                </a:cubicBezTo>
                <a:cubicBezTo>
                  <a:pt x="139" y="275"/>
                  <a:pt x="127" y="252"/>
                  <a:pt x="116" y="235"/>
                </a:cubicBezTo>
                <a:cubicBezTo>
                  <a:pt x="102" y="214"/>
                  <a:pt x="48" y="167"/>
                  <a:pt x="73" y="171"/>
                </a:cubicBezTo>
                <a:cubicBezTo>
                  <a:pt x="94" y="175"/>
                  <a:pt x="116" y="178"/>
                  <a:pt x="137" y="182"/>
                </a:cubicBezTo>
                <a:cubicBezTo>
                  <a:pt x="235" y="276"/>
                  <a:pt x="81" y="121"/>
                  <a:pt x="169" y="235"/>
                </a:cubicBezTo>
                <a:cubicBezTo>
                  <a:pt x="177" y="245"/>
                  <a:pt x="210" y="247"/>
                  <a:pt x="201" y="257"/>
                </a:cubicBezTo>
                <a:cubicBezTo>
                  <a:pt x="191" y="268"/>
                  <a:pt x="173" y="248"/>
                  <a:pt x="159" y="246"/>
                </a:cubicBezTo>
                <a:cubicBezTo>
                  <a:pt x="131" y="241"/>
                  <a:pt x="102" y="239"/>
                  <a:pt x="73" y="235"/>
                </a:cubicBezTo>
                <a:cubicBezTo>
                  <a:pt x="137" y="232"/>
                  <a:pt x="201" y="231"/>
                  <a:pt x="265" y="225"/>
                </a:cubicBezTo>
                <a:cubicBezTo>
                  <a:pt x="317" y="220"/>
                  <a:pt x="296" y="193"/>
                  <a:pt x="361" y="1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64040" y="1739880"/>
            <a:ext cx="1541520" cy="274680"/>
          </a:xfrm>
          <a:custGeom>
            <a:avLst/>
            <a:gdLst/>
            <a:ahLst/>
            <a:rect l="l" t="t" r="r" b="b"/>
            <a:pathLst>
              <a:path w="971" h="173">
                <a:moveTo>
                  <a:pt x="0" y="173"/>
                </a:moveTo>
                <a:cubicBezTo>
                  <a:pt x="86" y="0"/>
                  <a:pt x="257" y="52"/>
                  <a:pt x="437" y="45"/>
                </a:cubicBezTo>
                <a:cubicBezTo>
                  <a:pt x="902" y="58"/>
                  <a:pt x="713" y="25"/>
                  <a:pt x="928" y="99"/>
                </a:cubicBezTo>
                <a:cubicBezTo>
                  <a:pt x="932" y="110"/>
                  <a:pt x="932" y="122"/>
                  <a:pt x="939" y="131"/>
                </a:cubicBezTo>
                <a:cubicBezTo>
                  <a:pt x="947" y="141"/>
                  <a:pt x="971" y="152"/>
                  <a:pt x="971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1752480"/>
            <a:ext cx="1981080" cy="368280"/>
          </a:xfrm>
          <a:prstGeom prst="rect">
            <a:avLst/>
          </a:prstGeom>
          <a:solidFill>
            <a:srgbClr val="f9b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24480" y="2666880"/>
            <a:ext cx="1600200" cy="368280"/>
          </a:xfrm>
          <a:prstGeom prst="rect">
            <a:avLst/>
          </a:prstGeom>
          <a:solidFill>
            <a:srgbClr val="f9b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3505320"/>
            <a:ext cx="2210040" cy="368280"/>
          </a:xfrm>
          <a:prstGeom prst="rect">
            <a:avLst/>
          </a:prstGeom>
          <a:solidFill>
            <a:srgbClr val="f9b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NS 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828800" y="3581280"/>
            <a:ext cx="1981080" cy="368280"/>
          </a:xfrm>
          <a:prstGeom prst="rect">
            <a:avLst/>
          </a:prstGeom>
          <a:solidFill>
            <a:srgbClr val="f9b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S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543800" y="4267080"/>
            <a:ext cx="1447920" cy="368280"/>
          </a:xfrm>
          <a:prstGeom prst="rect">
            <a:avLst/>
          </a:prstGeom>
          <a:solidFill>
            <a:srgbClr val="f9b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43800" y="5562720"/>
            <a:ext cx="1447920" cy="642600"/>
          </a:xfrm>
          <a:prstGeom prst="rect">
            <a:avLst/>
          </a:prstGeom>
          <a:solidFill>
            <a:srgbClr val="f9b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YUKO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20120" y="6324480"/>
            <a:ext cx="1600200" cy="368280"/>
          </a:xfrm>
          <a:prstGeom prst="rect">
            <a:avLst/>
          </a:prstGeom>
          <a:solidFill>
            <a:srgbClr val="f9b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F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03400" y="6566040"/>
            <a:ext cx="4394160" cy="376200"/>
          </a:xfrm>
          <a:custGeom>
            <a:avLst/>
            <a:gdLst/>
            <a:ahLst/>
            <a:rect l="l" t="t" r="r" b="b"/>
            <a:pathLst>
              <a:path w="2768" h="237">
                <a:moveTo>
                  <a:pt x="16" y="120"/>
                </a:moveTo>
                <a:cubicBezTo>
                  <a:pt x="27" y="116"/>
                  <a:pt x="37" y="107"/>
                  <a:pt x="48" y="109"/>
                </a:cubicBezTo>
                <a:cubicBezTo>
                  <a:pt x="85" y="117"/>
                  <a:pt x="68" y="168"/>
                  <a:pt x="59" y="184"/>
                </a:cubicBezTo>
                <a:cubicBezTo>
                  <a:pt x="53" y="195"/>
                  <a:pt x="38" y="198"/>
                  <a:pt x="27" y="205"/>
                </a:cubicBezTo>
                <a:cubicBezTo>
                  <a:pt x="20" y="194"/>
                  <a:pt x="0" y="184"/>
                  <a:pt x="6" y="173"/>
                </a:cubicBezTo>
                <a:cubicBezTo>
                  <a:pt x="19" y="151"/>
                  <a:pt x="70" y="131"/>
                  <a:pt x="70" y="131"/>
                </a:cubicBezTo>
                <a:cubicBezTo>
                  <a:pt x="77" y="120"/>
                  <a:pt x="80" y="106"/>
                  <a:pt x="91" y="99"/>
                </a:cubicBezTo>
                <a:cubicBezTo>
                  <a:pt x="103" y="91"/>
                  <a:pt x="120" y="92"/>
                  <a:pt x="134" y="88"/>
                </a:cubicBezTo>
                <a:cubicBezTo>
                  <a:pt x="273" y="47"/>
                  <a:pt x="137" y="83"/>
                  <a:pt x="240" y="56"/>
                </a:cubicBezTo>
                <a:cubicBezTo>
                  <a:pt x="382" y="74"/>
                  <a:pt x="524" y="88"/>
                  <a:pt x="667" y="99"/>
                </a:cubicBezTo>
                <a:cubicBezTo>
                  <a:pt x="818" y="134"/>
                  <a:pt x="798" y="122"/>
                  <a:pt x="1051" y="131"/>
                </a:cubicBezTo>
                <a:cubicBezTo>
                  <a:pt x="1271" y="127"/>
                  <a:pt x="1492" y="127"/>
                  <a:pt x="1712" y="120"/>
                </a:cubicBezTo>
                <a:cubicBezTo>
                  <a:pt x="1789" y="118"/>
                  <a:pt x="1874" y="80"/>
                  <a:pt x="1947" y="56"/>
                </a:cubicBezTo>
                <a:cubicBezTo>
                  <a:pt x="1975" y="47"/>
                  <a:pt x="2032" y="35"/>
                  <a:pt x="2032" y="35"/>
                </a:cubicBezTo>
                <a:cubicBezTo>
                  <a:pt x="2265" y="49"/>
                  <a:pt x="2489" y="105"/>
                  <a:pt x="2715" y="163"/>
                </a:cubicBezTo>
                <a:cubicBezTo>
                  <a:pt x="2755" y="189"/>
                  <a:pt x="2738" y="175"/>
                  <a:pt x="2768" y="205"/>
                </a:cubicBezTo>
                <a:lnTo>
                  <a:pt x="2491" y="88"/>
                </a:lnTo>
                <a:cubicBezTo>
                  <a:pt x="2539" y="120"/>
                  <a:pt x="2590" y="148"/>
                  <a:pt x="2635" y="184"/>
                </a:cubicBezTo>
                <a:cubicBezTo>
                  <a:pt x="2645" y="192"/>
                  <a:pt x="2611" y="174"/>
                  <a:pt x="2598" y="173"/>
                </a:cubicBezTo>
                <a:cubicBezTo>
                  <a:pt x="2470" y="167"/>
                  <a:pt x="2342" y="166"/>
                  <a:pt x="2214" y="163"/>
                </a:cubicBezTo>
                <a:cubicBezTo>
                  <a:pt x="2217" y="127"/>
                  <a:pt x="2212" y="90"/>
                  <a:pt x="2224" y="56"/>
                </a:cubicBezTo>
                <a:cubicBezTo>
                  <a:pt x="2234" y="27"/>
                  <a:pt x="2319" y="64"/>
                  <a:pt x="2331" y="67"/>
                </a:cubicBezTo>
                <a:cubicBezTo>
                  <a:pt x="2384" y="102"/>
                  <a:pt x="2443" y="111"/>
                  <a:pt x="2502" y="131"/>
                </a:cubicBezTo>
                <a:cubicBezTo>
                  <a:pt x="2417" y="134"/>
                  <a:pt x="2331" y="141"/>
                  <a:pt x="2246" y="141"/>
                </a:cubicBezTo>
                <a:cubicBezTo>
                  <a:pt x="2235" y="141"/>
                  <a:pt x="2214" y="142"/>
                  <a:pt x="2214" y="131"/>
                </a:cubicBezTo>
                <a:cubicBezTo>
                  <a:pt x="2214" y="120"/>
                  <a:pt x="2257" y="120"/>
                  <a:pt x="2246" y="120"/>
                </a:cubicBezTo>
                <a:cubicBezTo>
                  <a:pt x="2206" y="120"/>
                  <a:pt x="2167" y="127"/>
                  <a:pt x="2128" y="131"/>
                </a:cubicBezTo>
                <a:cubicBezTo>
                  <a:pt x="1876" y="191"/>
                  <a:pt x="1812" y="166"/>
                  <a:pt x="1435" y="173"/>
                </a:cubicBezTo>
                <a:cubicBezTo>
                  <a:pt x="1201" y="203"/>
                  <a:pt x="1299" y="195"/>
                  <a:pt x="891" y="184"/>
                </a:cubicBezTo>
                <a:cubicBezTo>
                  <a:pt x="881" y="183"/>
                  <a:pt x="795" y="172"/>
                  <a:pt x="774" y="163"/>
                </a:cubicBezTo>
                <a:cubicBezTo>
                  <a:pt x="738" y="147"/>
                  <a:pt x="705" y="122"/>
                  <a:pt x="667" y="109"/>
                </a:cubicBezTo>
                <a:cubicBezTo>
                  <a:pt x="601" y="87"/>
                  <a:pt x="530" y="79"/>
                  <a:pt x="464" y="56"/>
                </a:cubicBezTo>
                <a:cubicBezTo>
                  <a:pt x="361" y="83"/>
                  <a:pt x="468" y="48"/>
                  <a:pt x="400" y="88"/>
                </a:cubicBezTo>
                <a:cubicBezTo>
                  <a:pt x="377" y="102"/>
                  <a:pt x="349" y="107"/>
                  <a:pt x="326" y="120"/>
                </a:cubicBezTo>
                <a:cubicBezTo>
                  <a:pt x="306" y="131"/>
                  <a:pt x="293" y="153"/>
                  <a:pt x="272" y="163"/>
                </a:cubicBezTo>
                <a:cubicBezTo>
                  <a:pt x="252" y="173"/>
                  <a:pt x="229" y="177"/>
                  <a:pt x="208" y="184"/>
                </a:cubicBezTo>
                <a:cubicBezTo>
                  <a:pt x="173" y="196"/>
                  <a:pt x="112" y="237"/>
                  <a:pt x="112" y="237"/>
                </a:cubicBezTo>
                <a:cubicBezTo>
                  <a:pt x="104" y="212"/>
                  <a:pt x="93" y="198"/>
                  <a:pt x="112" y="173"/>
                </a:cubicBezTo>
                <a:cubicBezTo>
                  <a:pt x="127" y="153"/>
                  <a:pt x="166" y="120"/>
                  <a:pt x="166" y="120"/>
                </a:cubicBezTo>
                <a:cubicBezTo>
                  <a:pt x="241" y="124"/>
                  <a:pt x="315" y="126"/>
                  <a:pt x="390" y="131"/>
                </a:cubicBezTo>
                <a:cubicBezTo>
                  <a:pt x="472" y="137"/>
                  <a:pt x="635" y="152"/>
                  <a:pt x="635" y="152"/>
                </a:cubicBezTo>
                <a:cubicBezTo>
                  <a:pt x="767" y="148"/>
                  <a:pt x="899" y="151"/>
                  <a:pt x="1030" y="141"/>
                </a:cubicBezTo>
                <a:cubicBezTo>
                  <a:pt x="1058" y="139"/>
                  <a:pt x="1116" y="106"/>
                  <a:pt x="1147" y="99"/>
                </a:cubicBezTo>
                <a:cubicBezTo>
                  <a:pt x="1216" y="51"/>
                  <a:pt x="1321" y="45"/>
                  <a:pt x="1403" y="35"/>
                </a:cubicBezTo>
                <a:cubicBezTo>
                  <a:pt x="1535" y="38"/>
                  <a:pt x="1667" y="35"/>
                  <a:pt x="1798" y="45"/>
                </a:cubicBezTo>
                <a:cubicBezTo>
                  <a:pt x="1808" y="46"/>
                  <a:pt x="1810" y="62"/>
                  <a:pt x="1819" y="67"/>
                </a:cubicBezTo>
                <a:cubicBezTo>
                  <a:pt x="1839" y="77"/>
                  <a:pt x="1861" y="87"/>
                  <a:pt x="1883" y="88"/>
                </a:cubicBezTo>
                <a:cubicBezTo>
                  <a:pt x="1968" y="92"/>
                  <a:pt x="2054" y="95"/>
                  <a:pt x="2139" y="99"/>
                </a:cubicBezTo>
                <a:cubicBezTo>
                  <a:pt x="2179" y="111"/>
                  <a:pt x="2205" y="131"/>
                  <a:pt x="2246" y="141"/>
                </a:cubicBezTo>
                <a:cubicBezTo>
                  <a:pt x="2280" y="165"/>
                  <a:pt x="2309" y="173"/>
                  <a:pt x="2224" y="173"/>
                </a:cubicBezTo>
                <a:cubicBezTo>
                  <a:pt x="2032" y="173"/>
                  <a:pt x="1840" y="166"/>
                  <a:pt x="1648" y="163"/>
                </a:cubicBezTo>
                <a:cubicBezTo>
                  <a:pt x="1524" y="150"/>
                  <a:pt x="1447" y="143"/>
                  <a:pt x="1318" y="152"/>
                </a:cubicBezTo>
                <a:cubicBezTo>
                  <a:pt x="1372" y="70"/>
                  <a:pt x="1508" y="65"/>
                  <a:pt x="1595" y="56"/>
                </a:cubicBezTo>
                <a:cubicBezTo>
                  <a:pt x="1751" y="60"/>
                  <a:pt x="1908" y="64"/>
                  <a:pt x="2064" y="67"/>
                </a:cubicBezTo>
                <a:cubicBezTo>
                  <a:pt x="2256" y="71"/>
                  <a:pt x="2474" y="0"/>
                  <a:pt x="2640" y="109"/>
                </a:cubicBezTo>
                <a:cubicBezTo>
                  <a:pt x="2650" y="137"/>
                  <a:pt x="2667" y="152"/>
                  <a:pt x="2619" y="152"/>
                </a:cubicBezTo>
                <a:cubicBezTo>
                  <a:pt x="2434" y="152"/>
                  <a:pt x="2249" y="145"/>
                  <a:pt x="2064" y="141"/>
                </a:cubicBezTo>
                <a:cubicBezTo>
                  <a:pt x="1862" y="103"/>
                  <a:pt x="1595" y="237"/>
                  <a:pt x="1446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009920" y="6553080"/>
            <a:ext cx="685800" cy="30492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705720" y="5715000"/>
            <a:ext cx="914400" cy="38088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553080" y="4572000"/>
            <a:ext cx="1524240" cy="53352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90920" y="3886200"/>
            <a:ext cx="2286000" cy="129528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5791320" y="1981080"/>
            <a:ext cx="457200" cy="53352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714640" y="2895480"/>
            <a:ext cx="6858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876920" y="3962520"/>
            <a:ext cx="1371600" cy="22860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33 L 0.125 0.12133 L 0.048 0.196 L 0.077 0.31733 L 0 0.24267 L -0.077 0.31733 L -0.048 0.196 L -0.125 0.12133 L -0.029 0.12133 L 0 0 Z">
                                      <p:cBhvr>
                                        <p:cTn id="257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2d680"/>
          </a:solidFill>
          <a:ln w="76320">
            <a:solidFill>
              <a:srgbClr val="d6009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TASTE OF TON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3124080"/>
            <a:ext cx="1905120" cy="259092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569520 h 2590920"/>
              <a:gd name="textAreaBottom" fmla="*/ 20214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40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3124080"/>
            <a:ext cx="2209680" cy="2590920"/>
          </a:xfrm>
          <a:custGeom>
            <a:avLst/>
            <a:gdLst>
              <a:gd name="textAreaLeft" fmla="*/ 486000 w 2209680"/>
              <a:gd name="textAreaRight" fmla="*/ 1723680 w 2209680"/>
              <a:gd name="textAreaTop" fmla="*/ 569520 h 2590920"/>
              <a:gd name="textAreaBottom" fmla="*/ 20214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40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5486400"/>
            <a:ext cx="7621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4120" y="5029200"/>
            <a:ext cx="759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00800" y="5029200"/>
            <a:ext cx="763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4952880"/>
            <a:ext cx="2286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4876920"/>
            <a:ext cx="2286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3581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67280" y="3505320"/>
            <a:ext cx="763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8080" y="5791320"/>
            <a:ext cx="266724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34320" y="5105520"/>
            <a:ext cx="198108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284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333 L 0 0.33333 L 0 0 Z">
                                      <p:cBhvr>
                                        <p:cTn id="303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4aa"/>
          </a:solidFill>
          <a:ln w="76320">
            <a:solidFill>
              <a:srgbClr val="66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080c"/>
                </a:solidFill>
                <a:latin typeface="Arial"/>
              </a:rPr>
              <a:t>TONGUE T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23880" y="2971800"/>
            <a:ext cx="2438640" cy="3124080"/>
          </a:xfrm>
          <a:custGeom>
            <a:avLst/>
            <a:gdLst>
              <a:gd name="textAreaLeft" fmla="*/ 536040 w 2438640"/>
              <a:gd name="textAreaRight" fmla="*/ 1902600 w 2438640"/>
              <a:gd name="textAreaTop" fmla="*/ 686880 h 3124080"/>
              <a:gd name="textAreaBottom" fmla="*/ 243720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40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638680" y="3048120"/>
            <a:ext cx="2286000" cy="2971800"/>
          </a:xfrm>
          <a:custGeom>
            <a:avLst/>
            <a:gdLst>
              <a:gd name="textAreaLeft" fmla="*/ 502560 w 2286000"/>
              <a:gd name="textAreaRight" fmla="*/ 1783440 w 2286000"/>
              <a:gd name="textAreaTop" fmla="*/ 653400 h 2971800"/>
              <a:gd name="textAreaBottom" fmla="*/ 2318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408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6248520"/>
            <a:ext cx="2361960" cy="368280"/>
          </a:xfrm>
          <a:prstGeom prst="rect">
            <a:avLst/>
          </a:prstGeom>
          <a:solidFill>
            <a:srgbClr val="f2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A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6172200"/>
            <a:ext cx="2286000" cy="368280"/>
          </a:xfrm>
          <a:prstGeom prst="rect">
            <a:avLst/>
          </a:prstGeom>
          <a:solidFill>
            <a:srgbClr val="c2d6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D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3657600"/>
            <a:ext cx="45720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76720" y="3657600"/>
            <a:ext cx="53316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2971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34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352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solidFill>
            <a:srgbClr val="00ffff">
              <a:alpha val="39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SUN FAMIL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3962520"/>
            <a:ext cx="609480" cy="5331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1371600"/>
            <a:ext cx="9144000" cy="52578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1600200"/>
            <a:ext cx="8077320" cy="46483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1828800"/>
            <a:ext cx="7467840" cy="4191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1981080"/>
            <a:ext cx="7010640" cy="38102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2209680"/>
            <a:ext cx="6172200" cy="3276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2514600"/>
            <a:ext cx="5562720" cy="2743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514600" y="2743200"/>
            <a:ext cx="4724280" cy="2286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19520" y="2895480"/>
            <a:ext cx="4190760" cy="1981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3048120"/>
            <a:ext cx="3581280" cy="16761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3352680"/>
            <a:ext cx="7621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00600" y="3581280"/>
            <a:ext cx="3049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419720" y="3123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95680" y="388620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962160" y="38862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37339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724280" y="3276360"/>
            <a:ext cx="3049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038480" y="320004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85840" y="3429000"/>
            <a:ext cx="1522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3885840" y="380988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190760" y="38862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572000" y="32000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38098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48120" y="3809880"/>
            <a:ext cx="22860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933600" y="37339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43200" y="43434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2743200"/>
            <a:ext cx="3808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72200" y="2362320"/>
            <a:ext cx="38088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24480" y="22860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001000" y="4267080"/>
            <a:ext cx="15228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952880"/>
            <a:ext cx="30456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4191120"/>
            <a:ext cx="3049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066680" y="5638680"/>
            <a:ext cx="6858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05520" y="3505320"/>
            <a:ext cx="1371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29000" y="4038480"/>
            <a:ext cx="1523880" cy="368280"/>
          </a:xfrm>
          <a:prstGeom prst="rect">
            <a:avLst/>
          </a:prstGeom>
          <a:solidFill>
            <a:srgbClr val="5cf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80c"/>
                </a:solidFill>
                <a:latin typeface="Arial"/>
              </a:rPr>
              <a:t>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162920" y="3657600"/>
            <a:ext cx="1295280" cy="368280"/>
          </a:xfrm>
          <a:prstGeom prst="rect">
            <a:avLst/>
          </a:prstGeom>
          <a:solidFill>
            <a:srgbClr val="5cf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80c"/>
                </a:solidFill>
                <a:latin typeface="Arial"/>
              </a:rPr>
              <a:t>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8120" y="4572000"/>
            <a:ext cx="1828800" cy="368280"/>
          </a:xfrm>
          <a:prstGeom prst="rect">
            <a:avLst/>
          </a:prstGeom>
          <a:solidFill>
            <a:srgbClr val="5cf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80c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2590920"/>
            <a:ext cx="1143000" cy="368280"/>
          </a:xfrm>
          <a:prstGeom prst="rect">
            <a:avLst/>
          </a:prstGeom>
          <a:solidFill>
            <a:srgbClr val="5cf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80c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05720" y="2057400"/>
            <a:ext cx="1523880" cy="368280"/>
          </a:xfrm>
          <a:prstGeom prst="rect">
            <a:avLst/>
          </a:prstGeom>
          <a:solidFill>
            <a:srgbClr val="5cf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sa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67480" y="4724280"/>
            <a:ext cx="1676520" cy="368280"/>
          </a:xfrm>
          <a:prstGeom prst="rect">
            <a:avLst/>
          </a:prstGeom>
          <a:solidFill>
            <a:srgbClr val="5cf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80c"/>
                </a:solidFill>
                <a:latin typeface="Arial"/>
              </a:rPr>
              <a:t>jup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5105520"/>
            <a:ext cx="1524240" cy="368280"/>
          </a:xfrm>
          <a:prstGeom prst="rect">
            <a:avLst/>
          </a:prstGeom>
          <a:solidFill>
            <a:srgbClr val="5cf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80c"/>
                </a:solidFill>
                <a:latin typeface="Arial"/>
              </a:rPr>
              <a:t>ur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4267080"/>
            <a:ext cx="1447560" cy="368280"/>
          </a:xfrm>
          <a:prstGeom prst="rect">
            <a:avLst/>
          </a:prstGeom>
          <a:solidFill>
            <a:srgbClr val="5cf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80c"/>
                </a:solidFill>
                <a:latin typeface="Arial"/>
              </a:rPr>
              <a:t>nep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05120" y="5715000"/>
            <a:ext cx="1523880" cy="368280"/>
          </a:xfrm>
          <a:prstGeom prst="rect">
            <a:avLst/>
          </a:prstGeom>
          <a:solidFill>
            <a:srgbClr val="5cf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80c"/>
                </a:solidFill>
                <a:latin typeface="Arial"/>
              </a:rPr>
              <a:t>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374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250" autoRev="1" fill="hold"/>
                                        <p:tgtEl>
                                          <p:spTgt spid="5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5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1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12133 L 0.077 0.31733 L -0.077 0.31733 L -0.125 0.12133 L 0 0 Z">
                                      <p:cBhvr>
                                        <p:cTn id="405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409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5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436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4:59:10Z</dcterms:created>
  <dc:creator>brcf12</dc:creator>
  <dc:description/>
  <dc:language>en-US</dc:language>
  <cp:lastModifiedBy>bansal</cp:lastModifiedBy>
  <dcterms:modified xsi:type="dcterms:W3CDTF">2008-07-22T06:21:43Z</dcterms:modified>
  <cp:revision>27</cp:revision>
  <dc:subject/>
  <dc:title>OXYGEN GAS</dc:title>
</cp:coreProperties>
</file>